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7890F-24F6-4093-B8B3-2691D0C94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88C87-22D3-4B3A-855C-461B8CE1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E6766-C04E-425A-96C9-204D0EC9A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45857-1942-444D-B431-38977EC52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9AFA-A209-4627-893D-0B50FD1AB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63DA-1396-43CF-99D1-14B5AC62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3694-3765-41A1-B4C7-50A60907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DDC9-0FDF-4D52-B66B-649F3F5E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2CA3-814E-4400-874A-BAA69C88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FBBF-231E-483F-BBB7-A907C811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85E0-06DA-42D7-B263-2BF726B8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AD402-7A6F-4402-BAB5-77ECB7CE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3F1A-C71B-4F2A-A8BA-82173C3A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B7B7-8F9F-4C77-9010-A8C9029D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A333-C643-44B9-9A59-1EBC22EE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2B78-9563-4738-B80D-3BC0C088A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FF7D-6164-4E35-BA97-3B1D933E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B4726-0B45-40DD-AC6D-6F67E69D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AE7DB-A9F2-4B07-AF3A-6D0DFC9A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2A318-42D7-4259-9644-2D1D39CB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5A3A7-1F4B-4F99-8B05-23F89CA2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1912B-5655-4238-B1D6-43A3F6ED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A28A8-F2AA-4ADF-882F-F5E1E3AC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A130C-E9B8-40AC-8067-28056588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74A0-06A5-4457-99F8-7406D8931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51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2CB4-EE43-45B7-B438-DAAA593A9CAE}" type="slidenum">
              <a:rPr b="0" lang="en-US" sz="1200" spc="-1" strike="noStrike">
                <a:solidFill>
                  <a:srgbClr val="00051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الصوت</a:t>
            </a: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95760" y="0"/>
            <a:ext cx="93250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(</a:t>
            </a: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حــ</a:t>
            </a: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) </a:t>
            </a: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توتُّر الأعصاب :                                </a:t>
            </a:r>
            <a:br>
              <a:rPr sz="4400"/>
            </a:b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تتوتر أعصاب الإنسان عند سماعه للضوضاء لفترة</a:t>
            </a:r>
            <a:br>
              <a:rPr sz="4400"/>
            </a:b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 و بالتالى يقل إنتاجه ، و بخاصة إذا نتج عن هذا </a:t>
            </a:r>
            <a:br>
              <a:rPr sz="4400"/>
            </a:b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التوتر قلِّة النوم .</a:t>
            </a:r>
            <a:br>
              <a:rPr sz="4400"/>
            </a:b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ثبت أيضاً أن التلوث الضوضائى لا يؤثر على </a:t>
            </a:r>
            <a:br>
              <a:rPr sz="4400"/>
            </a:b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الإنسان فحسب ، بل يؤثر أيضاً على الكائنات </a:t>
            </a:r>
            <a:br>
              <a:rPr sz="4400"/>
            </a:b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الأخرى ، فمثلاً : يقل إنتاج الأبقار من الألبان إذا</a:t>
            </a:r>
            <a:br>
              <a:rPr sz="4400"/>
            </a:b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وجدت فى مكان به تلوث ضوضائى ، و بالعكس </a:t>
            </a:r>
            <a:br>
              <a:rPr sz="4400"/>
            </a:b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يزيد إنتاجها من الألبان عند سماعها الموسيقى </a:t>
            </a:r>
            <a:br>
              <a:rPr sz="4400"/>
            </a:b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الهادئة</a:t>
            </a: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119520" y="0"/>
            <a:ext cx="93250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تدريبات على درس الصوت</a:t>
            </a:r>
            <a:br>
              <a:rPr sz="4400"/>
            </a:b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ســـى</a:t>
            </a: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1</a:t>
            </a: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 : أكمل ما يأتى :                             </a:t>
            </a:r>
            <a:br>
              <a:rPr sz="4400"/>
            </a:b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1</a:t>
            </a: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- ينتقل الصوت فى ........ و السائلة و الغازية .</a:t>
            </a:r>
            <a:br>
              <a:rPr sz="4400"/>
            </a:b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2</a:t>
            </a: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- ينشأ الصوت عن ................. الأشياء .    </a:t>
            </a:r>
            <a:br>
              <a:rPr sz="4400"/>
            </a:b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3</a:t>
            </a: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- الموجات ........... تنتشر فى الهواء فى جميع</a:t>
            </a:r>
            <a:br>
              <a:rPr sz="4400"/>
            </a:b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الاتجاهات على شكل ....... مركزها الجسم المهتز .</a:t>
            </a:r>
            <a:br>
              <a:rPr sz="4400"/>
            </a:b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4</a:t>
            </a: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- من الآثار الناتجة من التلوث الضوضائى :     </a:t>
            </a:r>
            <a:br>
              <a:rPr sz="4400"/>
            </a:b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صعوبة التخاطب  و ............. ، و ...........  </a:t>
            </a:r>
            <a:br>
              <a:rPr sz="4400"/>
            </a:b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5</a:t>
            </a: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- يسبب التلوث الضوضائى ........... للإنسان</a:t>
            </a: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. 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  <p:transition spd="slow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24360" y="0"/>
            <a:ext cx="96490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حل التدريبات على درس الصوت</a:t>
            </a:r>
            <a:br>
              <a:rPr sz="4000"/>
            </a:b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 ســـى</a:t>
            </a: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1</a:t>
            </a: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 : أكمل ما يأتى :                             </a:t>
            </a:r>
            <a:br>
              <a:rPr sz="4000"/>
            </a:b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1</a:t>
            </a: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- ينتقل الصوت فى </a:t>
            </a:r>
            <a:r>
              <a:rPr b="1" lang="ar-SA" sz="4000" spc="-1" strike="noStrike">
                <a:solidFill>
                  <a:srgbClr val="ffcc00"/>
                </a:solidFill>
                <a:latin typeface="Garamond"/>
              </a:rPr>
              <a:t>المواد الصلبة</a:t>
            </a: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 و السائلة و الغازية .</a:t>
            </a:r>
            <a:br>
              <a:rPr sz="4000"/>
            </a:b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2</a:t>
            </a: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- ينشأ الصوت عن </a:t>
            </a:r>
            <a:r>
              <a:rPr b="1" lang="ar-SA" sz="4000" spc="-1" strike="noStrike">
                <a:solidFill>
                  <a:srgbClr val="ffcc00"/>
                </a:solidFill>
                <a:latin typeface="Garamond"/>
              </a:rPr>
              <a:t>اهتزاز</a:t>
            </a: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 الأشياء .    </a:t>
            </a:r>
            <a:br>
              <a:rPr sz="4000"/>
            </a:b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3</a:t>
            </a: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- الموجات </a:t>
            </a:r>
            <a:r>
              <a:rPr b="1" lang="ar-SA" sz="4000" spc="-1" strike="noStrike">
                <a:solidFill>
                  <a:srgbClr val="ffcc00"/>
                </a:solidFill>
                <a:latin typeface="Garamond"/>
              </a:rPr>
              <a:t>الصوتية</a:t>
            </a: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 تنتشر فى الهواء فى جميع</a:t>
            </a:r>
            <a:br>
              <a:rPr sz="4000"/>
            </a:b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الاتجاهات على شكل </a:t>
            </a:r>
            <a:r>
              <a:rPr b="1" lang="ar-SA" sz="4000" spc="-1" strike="noStrike">
                <a:solidFill>
                  <a:srgbClr val="ffcc00"/>
                </a:solidFill>
                <a:latin typeface="Garamond"/>
              </a:rPr>
              <a:t>موجات</a:t>
            </a: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 مركزها الجسم المهتز .</a:t>
            </a:r>
            <a:br>
              <a:rPr sz="4000"/>
            </a:b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4</a:t>
            </a: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- من الآثار الناتجة من التلوث الضوضائى :     </a:t>
            </a:r>
            <a:br>
              <a:rPr sz="4000"/>
            </a:b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صعوبة التخاطب  و </a:t>
            </a:r>
            <a:r>
              <a:rPr b="1" lang="ar-SA" sz="4000" spc="-1" strike="noStrike">
                <a:solidFill>
                  <a:srgbClr val="ffcc00"/>
                </a:solidFill>
                <a:latin typeface="Garamond"/>
              </a:rPr>
              <a:t>ضعف السمع</a:t>
            </a: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 و </a:t>
            </a:r>
            <a:r>
              <a:rPr b="1" lang="ar-SA" sz="4000" spc="-1" strike="noStrike">
                <a:solidFill>
                  <a:srgbClr val="ffcc00"/>
                </a:solidFill>
                <a:latin typeface="Garamond"/>
              </a:rPr>
              <a:t>توُّتر الأعصاب</a:t>
            </a:r>
            <a:br>
              <a:rPr sz="4000"/>
            </a:b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5</a:t>
            </a: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- يسبب التلوث الضوضائى </a:t>
            </a:r>
            <a:r>
              <a:rPr b="1" lang="ar-SA" sz="4000" spc="-1" strike="noStrike">
                <a:solidFill>
                  <a:srgbClr val="ffcc00"/>
                </a:solidFill>
                <a:latin typeface="Garamond"/>
              </a:rPr>
              <a:t>انزعاجاً</a:t>
            </a: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 و</a:t>
            </a:r>
            <a:r>
              <a:rPr b="1" lang="ar-SA" sz="4000" spc="-1" strike="noStrike">
                <a:solidFill>
                  <a:srgbClr val="ffcc00"/>
                </a:solidFill>
                <a:latin typeface="Garamond"/>
              </a:rPr>
              <a:t> قلقاً</a:t>
            </a: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 للإنسا</a:t>
            </a:r>
            <a:r>
              <a:rPr b="1" lang="ar-EG" sz="4000" spc="-1" strike="noStrike">
                <a:solidFill>
                  <a:srgbClr val="003399"/>
                </a:solidFill>
                <a:latin typeface="Garamond"/>
              </a:rPr>
              <a:t>ن</a:t>
            </a: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.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مصادر الصوت :                                     </a:t>
            </a:r>
            <a:br>
              <a:rPr sz="4000"/>
            </a:b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1</a:t>
            </a: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- الإنسان : و ذلك حين يتكلم مع الآخرين .     </a:t>
            </a:r>
            <a:br>
              <a:rPr sz="4000"/>
            </a:b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2</a:t>
            </a: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- الحيوان : حين يصدر أصواتاً تعبر عن شعوره</a:t>
            </a:r>
            <a:br>
              <a:rPr sz="4000"/>
            </a:br>
            <a:r>
              <a:rPr b="1" lang="ar-EG" sz="4000" spc="-1" strike="noStrike">
                <a:solidFill>
                  <a:srgbClr val="003399"/>
                </a:solidFill>
                <a:latin typeface="Garamond"/>
              </a:rPr>
              <a:t>بآلام</a:t>
            </a: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 مثلاً ، أو ندائه للآخرين </a:t>
            </a:r>
            <a:r>
              <a:rPr b="1" lang="ar-EG" sz="4000" spc="-1" strike="noStrike">
                <a:solidFill>
                  <a:srgbClr val="003399"/>
                </a:solidFill>
                <a:latin typeface="Garamond"/>
              </a:rPr>
              <a:t>الخ الخ الخ الخ الخ</a:t>
            </a: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 .</a:t>
            </a:r>
            <a:br>
              <a:rPr sz="4000"/>
            </a:b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3</a:t>
            </a: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- أدوات مختلفة مثل : المذياع و التلفيزيون .</a:t>
            </a:r>
            <a:br>
              <a:rPr sz="4000"/>
            </a:b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4</a:t>
            </a: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- الظواهر الطبيعية مثل</a:t>
            </a:r>
            <a:r>
              <a:rPr b="1" lang="ar-EG" sz="40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: الرعد و المياه المتدفقة</a:t>
            </a:r>
            <a:r>
              <a:rPr b="1" lang="ar-EG" sz="4000" spc="-1" strike="noStrike">
                <a:solidFill>
                  <a:srgbClr val="003399"/>
                </a:solidFill>
                <a:latin typeface="Garamond"/>
              </a:rPr>
              <a:t> من</a:t>
            </a:r>
            <a:br>
              <a:rPr sz="4000"/>
            </a:b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الشلالات و أمواج البحر و البراكين .</a:t>
            </a:r>
            <a:br>
              <a:rPr sz="4000"/>
            </a:b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5</a:t>
            </a: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- النباتات : تهتز بعض أجزاء النباتات بحركة الرياح</a:t>
            </a:r>
            <a:br>
              <a:rPr sz="4000"/>
            </a:b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فيصدر من هذه الأجزاء أصوات يطلق عليها حفيف </a:t>
            </a:r>
            <a:br>
              <a:rPr sz="4000"/>
            </a:b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الأوراق و الأغصان</a:t>
            </a: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.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3399"/>
                </a:solidFill>
                <a:latin typeface="Garamond"/>
              </a:rPr>
              <a:t>كيف ينشأ الصوت ؟                                 </a:t>
            </a:r>
            <a:br>
              <a:rPr sz="4400"/>
            </a:br>
            <a:r>
              <a:rPr b="1" lang="ar-EG" sz="4400" spc="-1" strike="noStrike">
                <a:solidFill>
                  <a:srgbClr val="003399"/>
                </a:solidFill>
                <a:latin typeface="Garamond"/>
              </a:rPr>
              <a:t>لمعرفة ذلك عليك بإجراء التجربة الآتية :</a:t>
            </a: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          </a:t>
            </a:r>
            <a:br>
              <a:rPr sz="4400"/>
            </a:b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تجربة (</a:t>
            </a: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1</a:t>
            </a: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) :                                          </a:t>
            </a:r>
            <a:br>
              <a:rPr sz="4400"/>
            </a:br>
            <a:r>
              <a:rPr b="1" lang="ar-EG" sz="4400" spc="-1" strike="noStrike">
                <a:solidFill>
                  <a:srgbClr val="003399"/>
                </a:solidFill>
                <a:latin typeface="Garamond"/>
              </a:rPr>
              <a:t>(ا) ضع مسطرة من (البلاستيك أو المعدن) على </a:t>
            </a:r>
            <a:br>
              <a:rPr sz="4400"/>
            </a:br>
            <a:r>
              <a:rPr b="1" lang="ar-EG" sz="4400" spc="-1" strike="noStrike">
                <a:solidFill>
                  <a:srgbClr val="003399"/>
                </a:solidFill>
                <a:latin typeface="Garamond"/>
              </a:rPr>
              <a:t>حافة منضدة ، بحيث يظهر حوالى نصفها خارج</a:t>
            </a:r>
            <a:br>
              <a:rPr sz="4400"/>
            </a:br>
            <a:r>
              <a:rPr b="1" lang="ar-EG" sz="4400" spc="-1" strike="noStrike">
                <a:solidFill>
                  <a:srgbClr val="003399"/>
                </a:solidFill>
                <a:latin typeface="Garamond"/>
              </a:rPr>
              <a:t>المنضدة .</a:t>
            </a:r>
            <a:br>
              <a:rPr sz="4400"/>
            </a:br>
            <a:r>
              <a:rPr b="1" lang="ar-EG" sz="4400" spc="-1" strike="noStrike">
                <a:solidFill>
                  <a:srgbClr val="003399"/>
                </a:solidFill>
                <a:latin typeface="Garamond"/>
              </a:rPr>
              <a:t>(ب) اضغط على الجزء الموضوع من المسطرة على المنضدة بقوة .</a:t>
            </a:r>
            <a:br>
              <a:rPr sz="4400"/>
            </a:br>
            <a:r>
              <a:rPr b="1" lang="ar-EG" sz="4400" spc="-1" strike="noStrike">
                <a:solidFill>
                  <a:srgbClr val="003399"/>
                </a:solidFill>
                <a:latin typeface="Garamond"/>
              </a:rPr>
              <a:t>(حــ) اطرق جزء المسطرة الظاهر خارج المنضدة</a:t>
            </a:r>
            <a:br>
              <a:rPr sz="4400"/>
            </a:br>
            <a:r>
              <a:rPr b="1" lang="ar-EG" sz="4400" spc="-1" strike="noStrike">
                <a:solidFill>
                  <a:srgbClr val="003399"/>
                </a:solidFill>
                <a:latin typeface="Garamond"/>
              </a:rPr>
              <a:t>بشدة و لاحظ ما يحدث</a:t>
            </a:r>
            <a:r>
              <a:rPr b="1" lang="ar-EG" sz="44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1" lang="ar-EG" sz="4400" spc="-1" strike="noStrike">
                <a:solidFill>
                  <a:srgbClr val="003399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79200" y="0"/>
            <a:ext cx="93247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3399"/>
                </a:solidFill>
                <a:latin typeface="Garamond"/>
              </a:rPr>
              <a:t>الملاحظة : تسمع صوتاً .                            </a:t>
            </a:r>
            <a:br>
              <a:rPr sz="4400"/>
            </a:br>
            <a:r>
              <a:rPr b="1" lang="ar-EG" sz="4400" spc="-1" strike="noStrike">
                <a:solidFill>
                  <a:srgbClr val="003399"/>
                </a:solidFill>
                <a:latin typeface="Garamond"/>
              </a:rPr>
              <a:t>(ء) كرر العمل السابق مع لمس طرف المسطرة </a:t>
            </a:r>
            <a:br>
              <a:rPr sz="4400"/>
            </a:br>
            <a:r>
              <a:rPr b="1" lang="ar-EG" sz="4400" spc="-1" strike="noStrike">
                <a:solidFill>
                  <a:srgbClr val="003399"/>
                </a:solidFill>
                <a:latin typeface="Garamond"/>
              </a:rPr>
              <a:t>الظاهر خارج المنضدة فى أثناء سماع الصوت ، و</a:t>
            </a:r>
            <a:br>
              <a:rPr sz="4400"/>
            </a:br>
            <a:r>
              <a:rPr b="1" lang="ar-EG" sz="4400" spc="-1" strike="noStrike">
                <a:solidFill>
                  <a:srgbClr val="003399"/>
                </a:solidFill>
                <a:latin typeface="Garamond"/>
              </a:rPr>
              <a:t>لاحظ ما يحدث .</a:t>
            </a:r>
            <a:br>
              <a:rPr sz="4400"/>
            </a:br>
            <a:r>
              <a:rPr b="1" lang="ar-EG" sz="4400" spc="-1" strike="noStrike">
                <a:solidFill>
                  <a:srgbClr val="003399"/>
                </a:solidFill>
                <a:latin typeface="Garamond"/>
              </a:rPr>
              <a:t>الملاحظة : تلاحظ اهتزاز هذا الطرف .             </a:t>
            </a:r>
            <a:br>
              <a:rPr sz="4400"/>
            </a:br>
            <a:r>
              <a:rPr b="1" lang="ar-EG" sz="4400" spc="-1" strike="noStrike">
                <a:solidFill>
                  <a:srgbClr val="003399"/>
                </a:solidFill>
                <a:latin typeface="Garamond"/>
              </a:rPr>
              <a:t>(هـ) كرر الطرق على طرف المسطرة الظاهر خارج</a:t>
            </a:r>
            <a:br>
              <a:rPr sz="4400"/>
            </a:br>
            <a:r>
              <a:rPr b="1" lang="ar-EG" sz="4400" spc="-1" strike="noStrike">
                <a:solidFill>
                  <a:srgbClr val="003399"/>
                </a:solidFill>
                <a:latin typeface="Garamond"/>
              </a:rPr>
              <a:t>المنضدة ، و حاول إيقاف اهتزاز هذا الطرف عند</a:t>
            </a:r>
            <a:br>
              <a:rPr sz="4400"/>
            </a:br>
            <a:r>
              <a:rPr b="1" lang="ar-EG" sz="4400" spc="-1" strike="noStrike">
                <a:solidFill>
                  <a:srgbClr val="003399"/>
                </a:solidFill>
                <a:latin typeface="Garamond"/>
              </a:rPr>
              <a:t>سماع الصوت .</a:t>
            </a:r>
            <a:br>
              <a:rPr sz="4400"/>
            </a:br>
            <a:r>
              <a:rPr b="1" lang="ar-EG" sz="4400" spc="-1" strike="noStrike">
                <a:solidFill>
                  <a:srgbClr val="003399"/>
                </a:solidFill>
                <a:latin typeface="Garamond"/>
              </a:rPr>
              <a:t>الملاحظة : يتوقف سماع الصوت عندما يتوقف </a:t>
            </a:r>
            <a:br>
              <a:rPr sz="4400"/>
            </a:br>
            <a:r>
              <a:rPr b="1" lang="ar-EG" sz="4400" spc="-1" strike="noStrike">
                <a:solidFill>
                  <a:srgbClr val="003399"/>
                </a:solidFill>
                <a:latin typeface="Garamond"/>
              </a:rPr>
              <a:t>اهتزاز المسطرة</a:t>
            </a:r>
            <a:r>
              <a:rPr b="1" lang="ar-EG" sz="44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1" lang="ar-EG" sz="4400" spc="-1" strike="noStrike">
                <a:solidFill>
                  <a:srgbClr val="003399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3399"/>
                </a:solidFill>
                <a:latin typeface="Garamond"/>
              </a:rPr>
              <a:t>انتقال الصوت فى المواد المختلفة</a:t>
            </a:r>
            <a:br>
              <a:rPr sz="4400"/>
            </a:br>
            <a:r>
              <a:rPr b="1" lang="ar-EG" sz="3600" spc="-1" strike="noStrike">
                <a:solidFill>
                  <a:srgbClr val="003399"/>
                </a:solidFill>
                <a:latin typeface="Garamond"/>
              </a:rPr>
              <a:t>إذا أردت أن تعرف هل ينتقل الصوت خلال المواد المختلفة أم</a:t>
            </a:r>
            <a:br>
              <a:rPr sz="3600"/>
            </a:br>
            <a:r>
              <a:rPr b="1" lang="ar-EG" sz="3600" spc="-1" strike="noStrike">
                <a:solidFill>
                  <a:srgbClr val="003399"/>
                </a:solidFill>
                <a:latin typeface="Garamond"/>
              </a:rPr>
              <a:t>لا ؛ فيمكنك إجراء بعض التجارب </a:t>
            </a:r>
            <a:r>
              <a:rPr b="1" lang="ar-SA" sz="3600" spc="-1" strike="noStrike">
                <a:solidFill>
                  <a:srgbClr val="003399"/>
                </a:solidFill>
                <a:latin typeface="Garamond"/>
              </a:rPr>
              <a:t>مستخدماً</a:t>
            </a:r>
            <a:r>
              <a:rPr b="1" lang="ar-EG" sz="3600" spc="-1" strike="noStrike">
                <a:solidFill>
                  <a:srgbClr val="003399"/>
                </a:solidFill>
                <a:latin typeface="Garamond"/>
              </a:rPr>
              <a:t> بعض الغازات ،</a:t>
            </a:r>
            <a:br>
              <a:rPr sz="3600"/>
            </a:br>
            <a:r>
              <a:rPr b="1" lang="ar-EG" sz="3600" spc="-1" strike="noStrike">
                <a:solidFill>
                  <a:srgbClr val="003399"/>
                </a:solidFill>
                <a:latin typeface="Garamond"/>
              </a:rPr>
              <a:t> و بعض السوائل ، و</a:t>
            </a:r>
            <a:r>
              <a:rPr b="1" lang="ar-SA" sz="3600" spc="-1" strike="noStrike">
                <a:solidFill>
                  <a:srgbClr val="003399"/>
                </a:solidFill>
                <a:latin typeface="Garamond"/>
              </a:rPr>
              <a:t> بعض الأجسام</a:t>
            </a:r>
            <a:r>
              <a:rPr b="1" lang="ar-EG" sz="3600" spc="-1" strike="noStrike">
                <a:solidFill>
                  <a:srgbClr val="003399"/>
                </a:solidFill>
                <a:latin typeface="Garamond"/>
              </a:rPr>
              <a:t> الصلبة ، كما يلى :      </a:t>
            </a:r>
            <a:br>
              <a:rPr sz="3600"/>
            </a:br>
            <a:r>
              <a:rPr b="1" lang="ar-EG" sz="3600" spc="-1" strike="noStrike">
                <a:solidFill>
                  <a:srgbClr val="003399"/>
                </a:solidFill>
                <a:latin typeface="Garamond"/>
              </a:rPr>
              <a:t>*</a:t>
            </a:r>
            <a:r>
              <a:rPr b="1" lang="ar-SA" sz="3600" spc="-1" strike="noStrike">
                <a:solidFill>
                  <a:srgbClr val="003399"/>
                </a:solidFill>
                <a:latin typeface="Garamond"/>
              </a:rPr>
              <a:t>* الغازات و انتقال الصوت خلالها :</a:t>
            </a:r>
            <a:r>
              <a:rPr b="1" lang="ar-EG" sz="3600" spc="-1" strike="noStrike">
                <a:solidFill>
                  <a:srgbClr val="003399"/>
                </a:solidFill>
                <a:latin typeface="Garamond"/>
              </a:rPr>
              <a:t>        </a:t>
            </a:r>
            <a:r>
              <a:rPr b="1" lang="ar-SA" sz="3600" spc="-1" strike="noStrike">
                <a:solidFill>
                  <a:srgbClr val="003399"/>
                </a:solidFill>
                <a:latin typeface="Garamond"/>
              </a:rPr>
              <a:t>                   </a:t>
            </a:r>
            <a:r>
              <a:rPr b="1" lang="ar-EG" sz="3600" spc="-1" strike="noStrike">
                <a:solidFill>
                  <a:srgbClr val="003399"/>
                </a:solidFill>
                <a:latin typeface="Garamond"/>
              </a:rPr>
              <a:t> </a:t>
            </a:r>
            <a:br>
              <a:rPr sz="3600"/>
            </a:br>
            <a:r>
              <a:rPr b="1" lang="ar-SA" sz="3600" spc="-1" strike="noStrike">
                <a:solidFill>
                  <a:srgbClr val="003399"/>
                </a:solidFill>
                <a:latin typeface="Garamond"/>
              </a:rPr>
              <a:t> * تجربة (</a:t>
            </a:r>
            <a:r>
              <a:rPr b="1" lang="ar-SA" sz="3600" spc="-1" strike="noStrike">
                <a:solidFill>
                  <a:srgbClr val="003399"/>
                </a:solidFill>
                <a:latin typeface="Garamond"/>
              </a:rPr>
              <a:t>2</a:t>
            </a:r>
            <a:r>
              <a:rPr b="1" lang="ar-SA" sz="3600" spc="-1" strike="noStrike">
                <a:solidFill>
                  <a:srgbClr val="003399"/>
                </a:solidFill>
                <a:latin typeface="Garamond"/>
              </a:rPr>
              <a:t>) : اطرق ملعقة معدنية بأخرى ، و لاحظ : هل</a:t>
            </a:r>
            <a:r>
              <a:rPr b="1" lang="ar-EG" sz="3600" spc="-1" strike="noStrike">
                <a:solidFill>
                  <a:srgbClr val="003399"/>
                </a:solidFill>
                <a:latin typeface="Garamond"/>
              </a:rPr>
              <a:t> تسمع</a:t>
            </a:r>
            <a:r>
              <a:rPr b="1" lang="ar-SA" sz="3600" spc="-1" strike="noStrike">
                <a:solidFill>
                  <a:srgbClr val="003399"/>
                </a:solidFill>
                <a:latin typeface="Garamond"/>
              </a:rPr>
              <a:t> صوتاً أم لا ؟</a:t>
            </a:r>
            <a:br>
              <a:rPr sz="3600"/>
            </a:br>
            <a:r>
              <a:rPr b="1" lang="ar-SA" sz="3600" spc="-1" strike="noStrike">
                <a:solidFill>
                  <a:srgbClr val="003399"/>
                </a:solidFill>
                <a:latin typeface="Garamond"/>
              </a:rPr>
              <a:t>الملاحظة : تسمع صوتاً .</a:t>
            </a:r>
            <a:r>
              <a:rPr b="1" lang="ar-EG" sz="3600" spc="-1" strike="noStrike">
                <a:solidFill>
                  <a:srgbClr val="003399"/>
                </a:solidFill>
                <a:latin typeface="Garamond"/>
              </a:rPr>
              <a:t>                                       </a:t>
            </a:r>
            <a:br>
              <a:rPr sz="3600"/>
            </a:br>
            <a:r>
              <a:rPr b="1" lang="ar-SA" sz="3600" spc="-1" strike="noStrike">
                <a:solidFill>
                  <a:srgbClr val="003399"/>
                </a:solidFill>
                <a:latin typeface="Garamond"/>
              </a:rPr>
              <a:t>التفسير : سماعك للصوت يدل على أنه انتقل إلى أذنيك</a:t>
            </a:r>
            <a:r>
              <a:rPr b="1" lang="ar-EG" sz="3600" spc="-1" strike="noStrike">
                <a:solidFill>
                  <a:srgbClr val="003399"/>
                </a:solidFill>
                <a:latin typeface="Garamond"/>
              </a:rPr>
              <a:t> خلال</a:t>
            </a:r>
            <a:r>
              <a:rPr b="1" lang="ar-SA" sz="3600" spc="-1" strike="noStrike">
                <a:solidFill>
                  <a:srgbClr val="003399"/>
                </a:solidFill>
                <a:latin typeface="Garamond"/>
              </a:rPr>
              <a:t> </a:t>
            </a:r>
            <a:br>
              <a:rPr sz="3600"/>
            </a:br>
            <a:r>
              <a:rPr b="1" lang="ar-SA" sz="3600" spc="-1" strike="noStrike">
                <a:solidFill>
                  <a:srgbClr val="003399"/>
                </a:solidFill>
                <a:latin typeface="Garamond"/>
              </a:rPr>
              <a:t> الهواء (مجموعة من الغازات)</a:t>
            </a:r>
            <a:r>
              <a:rPr b="1" lang="ar-EG" sz="3600" spc="-1" strike="noStrike">
                <a:solidFill>
                  <a:srgbClr val="003399"/>
                </a:solidFill>
                <a:latin typeface="Garamond"/>
              </a:rPr>
              <a:t> .</a:t>
            </a:r>
            <a:br>
              <a:rPr sz="3600"/>
            </a:br>
            <a:r>
              <a:rPr b="1" lang="ar-EG" sz="3600" spc="-1" strike="noStrike">
                <a:solidFill>
                  <a:srgbClr val="003399"/>
                </a:solidFill>
                <a:latin typeface="Garamond"/>
              </a:rPr>
              <a:t>* الاستنتاج  : ينتقل الصوت خلال الغازات</a:t>
            </a:r>
            <a:r>
              <a:rPr b="1" lang="ar-EG" sz="36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1" lang="ar-EG" sz="3600" spc="-1" strike="noStrike">
                <a:solidFill>
                  <a:srgbClr val="003399"/>
                </a:solidFill>
                <a:latin typeface="Garamond"/>
              </a:rPr>
              <a:t>.                    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492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3399"/>
                </a:solidFill>
                <a:latin typeface="Garamond"/>
              </a:rPr>
              <a:t>** </a:t>
            </a:r>
            <a:r>
              <a:rPr b="1" lang="ar-EG" sz="4000" spc="-1" strike="noStrike">
                <a:solidFill>
                  <a:srgbClr val="003399"/>
                </a:solidFill>
                <a:latin typeface="Garamond"/>
              </a:rPr>
              <a:t>السوائل و انتقال الصوت خلالها :                     </a:t>
            </a:r>
            <a:br>
              <a:rPr sz="4000"/>
            </a:br>
            <a:r>
              <a:rPr b="1" lang="ar-EG" sz="4000" spc="-1" strike="noStrike">
                <a:solidFill>
                  <a:srgbClr val="003399"/>
                </a:solidFill>
                <a:latin typeface="Garamond"/>
              </a:rPr>
              <a:t>* تجربة</a:t>
            </a: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 (</a:t>
            </a: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3</a:t>
            </a: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)</a:t>
            </a:r>
            <a:r>
              <a:rPr b="1" lang="ar-EG" sz="4000" spc="-1" strike="noStrike">
                <a:solidFill>
                  <a:srgbClr val="003399"/>
                </a:solidFill>
                <a:latin typeface="Garamond"/>
              </a:rPr>
              <a:t> :                                              </a:t>
            </a:r>
            <a:br>
              <a:rPr sz="4000"/>
            </a:br>
            <a:r>
              <a:rPr b="1" lang="ar-EG" sz="4000" spc="-1" strike="noStrike">
                <a:solidFill>
                  <a:srgbClr val="003399"/>
                </a:solidFill>
                <a:latin typeface="Garamond"/>
              </a:rPr>
              <a:t>(ا) ضع ماء فى حوض عميق .                           </a:t>
            </a:r>
            <a:br>
              <a:rPr sz="4000"/>
            </a:br>
            <a:r>
              <a:rPr b="1" lang="ar-EG" sz="4000" spc="-1" strike="noStrike">
                <a:solidFill>
                  <a:srgbClr val="003399"/>
                </a:solidFill>
                <a:latin typeface="Garamond"/>
              </a:rPr>
              <a:t>(ب) ضع ملعقتين معدنيتين حتى منتصفيهما فى الماء  </a:t>
            </a:r>
            <a:br>
              <a:rPr sz="4000"/>
            </a:br>
            <a:r>
              <a:rPr b="1" lang="ar-EG" sz="4000" spc="-1" strike="noStrike">
                <a:solidFill>
                  <a:srgbClr val="003399"/>
                </a:solidFill>
                <a:latin typeface="Garamond"/>
              </a:rPr>
              <a:t>الماء ، كما فى .</a:t>
            </a:r>
            <a:br>
              <a:rPr sz="4000"/>
            </a:br>
            <a:r>
              <a:rPr b="1" lang="ar-EG" sz="4000" spc="-1" strike="noStrike">
                <a:solidFill>
                  <a:srgbClr val="003399"/>
                </a:solidFill>
                <a:latin typeface="Garamond"/>
              </a:rPr>
              <a:t>(حــ) اطرق طرفى الملعقتين المغمورين فى الماء       </a:t>
            </a:r>
            <a:br>
              <a:rPr sz="4000"/>
            </a:br>
            <a:r>
              <a:rPr b="1" lang="ar-EG" sz="4000" spc="-1" strike="noStrike">
                <a:solidFill>
                  <a:srgbClr val="003399"/>
                </a:solidFill>
                <a:latin typeface="Garamond"/>
              </a:rPr>
              <a:t>ببعضهما ، و لاحظ : هل تسمع صوتاً .</a:t>
            </a:r>
            <a:br>
              <a:rPr sz="4000"/>
            </a:br>
            <a:r>
              <a:rPr b="1" lang="ar-EG" sz="4000" spc="-1" strike="noStrike">
                <a:solidFill>
                  <a:srgbClr val="003399"/>
                </a:solidFill>
                <a:latin typeface="Garamond"/>
              </a:rPr>
              <a:t>* الملاحظة : تسمع صوتاً .                               </a:t>
            </a:r>
            <a:br>
              <a:rPr sz="4000"/>
            </a:br>
            <a:r>
              <a:rPr b="1" lang="ar-EG" sz="4000" spc="-1" strike="noStrike">
                <a:solidFill>
                  <a:srgbClr val="003399"/>
                </a:solidFill>
                <a:latin typeface="Garamond"/>
              </a:rPr>
              <a:t>* الاستنتاج : ينتقل الصوت خلال الماء . </a:t>
            </a: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       </a:t>
            </a:r>
            <a:r>
              <a:rPr b="1" lang="ar-EG" sz="4000" spc="-1" strike="noStrike">
                <a:solidFill>
                  <a:srgbClr val="003399"/>
                </a:solidFill>
                <a:latin typeface="Garamond"/>
              </a:rPr>
              <a:t>       </a:t>
            </a: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1" lang="ar-EG" sz="4000" spc="-1" strike="noStrike">
                <a:solidFill>
                  <a:srgbClr val="003399"/>
                </a:solidFill>
                <a:latin typeface="Garamond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* الملاحظة : تسمع صوتاً .                               </a:t>
            </a:r>
            <a:br>
              <a:rPr sz="4000"/>
            </a:b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* الاستنتاج : ينتقل الصوت خلال السوائل</a:t>
            </a: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.             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30320" y="0"/>
            <a:ext cx="93967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الأجسام الصلبة و انتقال الصوت خلالها</a:t>
            </a:r>
            <a:br>
              <a:rPr sz="4000"/>
            </a:b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تجربة (</a:t>
            </a: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4</a:t>
            </a: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) :                                                  </a:t>
            </a:r>
            <a:br>
              <a:rPr sz="4000"/>
            </a:b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(ا) ضع مصدراً الصوت مثل الساعة أو المذياع (صغير) </a:t>
            </a:r>
            <a:br>
              <a:rPr sz="4000"/>
            </a:b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تحت وسادة .</a:t>
            </a:r>
            <a:br>
              <a:rPr sz="4000"/>
            </a:b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(ب) ضع أذنك فوق الوسادة و لاحظ : هل تسمع صوتاً ؟</a:t>
            </a:r>
            <a:br>
              <a:rPr sz="4000"/>
            </a:b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* الملاحظة : تسمع صوتاً .                                </a:t>
            </a:r>
            <a:br>
              <a:rPr sz="4000"/>
            </a:b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كرر هذه التجربة مع استبدال الوسادة بكتاب مثلاً .     </a:t>
            </a:r>
            <a:br>
              <a:rPr sz="4000"/>
            </a:b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* الملاحظة : تسمع صوتاً فى كل مرة .                    </a:t>
            </a:r>
            <a:br>
              <a:rPr sz="4000"/>
            </a:b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* الاستنتاج : ينتقل الصوت خلال الأجسام الصلبة .      </a:t>
            </a:r>
            <a:br>
              <a:rPr sz="4000"/>
            </a:b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* الاستنتاج العـام : ينتقل الصوت خلال الأجسام المختلفة</a:t>
            </a:r>
            <a:br>
              <a:rPr sz="4000"/>
            </a:b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سواء كانت صلبة ، أو سائلة ، أو غازية</a:t>
            </a: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.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166680" y="0"/>
            <a:ext cx="9539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التلوث الضوضائى :                                   </a:t>
            </a:r>
            <a:br>
              <a:rPr sz="4400"/>
            </a:b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يقصد به الضوضاء الناتجة من الأصوات العالية </a:t>
            </a:r>
            <a:br>
              <a:rPr sz="4400"/>
            </a:b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التى تزعج الإنسان و تؤذى أذنه و لا يرتاح إلى</a:t>
            </a:r>
            <a:br>
              <a:rPr sz="4400"/>
            </a:b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سماعها و تحدث هذه الأصوات من مكبرات الصوت</a:t>
            </a:r>
            <a:br>
              <a:rPr sz="4400"/>
            </a:b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و المصانع و الورش ، و حركة المواصلات و آلات</a:t>
            </a:r>
            <a:br>
              <a:rPr sz="4400"/>
            </a:b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تنبيه السيارات</a:t>
            </a: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1" lang="ar-SA" sz="4400" spc="-1" strike="noStrike">
                <a:solidFill>
                  <a:srgbClr val="003399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240120" y="0"/>
            <a:ext cx="96267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الآثار الناتجة عن التلوث الضوضائى </a:t>
            </a:r>
            <a:br>
              <a:rPr sz="4000"/>
            </a:b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* كلها آثار ضارة ، و منها :                                 </a:t>
            </a:r>
            <a:br>
              <a:rPr sz="4000"/>
            </a:b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(ا) صعوبة التخاطب :                                       </a:t>
            </a:r>
            <a:br>
              <a:rPr sz="4000"/>
            </a:br>
            <a:r>
              <a:rPr b="1" lang="ar-SA" sz="3600" spc="-1" strike="noStrike">
                <a:solidFill>
                  <a:srgbClr val="003399"/>
                </a:solidFill>
                <a:latin typeface="Garamond"/>
              </a:rPr>
              <a:t>وجود الضوضاء يحبر الناس على رفع أصواتهم عند</a:t>
            </a:r>
            <a:br>
              <a:rPr sz="3600"/>
            </a:br>
            <a:r>
              <a:rPr b="1" lang="ar-SA" sz="3600" spc="-1" strike="noStrike">
                <a:solidFill>
                  <a:srgbClr val="003399"/>
                </a:solidFill>
                <a:latin typeface="Garamond"/>
              </a:rPr>
              <a:t> تخاطبهم معاً ؛ لكى يسمع كل منهم الآخر ، مما يؤدى</a:t>
            </a:r>
            <a:br>
              <a:rPr sz="3600"/>
            </a:br>
            <a:r>
              <a:rPr b="1" lang="ar-SA" sz="3600" spc="-1" strike="noStrike">
                <a:solidFill>
                  <a:srgbClr val="003399"/>
                </a:solidFill>
                <a:latin typeface="Garamond"/>
              </a:rPr>
              <a:t>إلى إجهاد الأحبال الصوتية عندهم ، و قد يفقدون </a:t>
            </a:r>
            <a:br>
              <a:rPr sz="3600"/>
            </a:br>
            <a:r>
              <a:rPr b="1" lang="ar-SA" sz="3600" spc="-1" strike="noStrike">
                <a:solidFill>
                  <a:srgbClr val="003399"/>
                </a:solidFill>
                <a:latin typeface="Garamond"/>
              </a:rPr>
              <a:t>أصواتهم نتيجة لذلك .</a:t>
            </a:r>
            <a:br>
              <a:rPr sz="3600"/>
            </a:br>
            <a:r>
              <a:rPr b="1" lang="ar-SA" sz="4000" spc="-1" strike="noStrike">
                <a:solidFill>
                  <a:srgbClr val="003399"/>
                </a:solidFill>
                <a:latin typeface="Garamond"/>
              </a:rPr>
              <a:t>(ب) الإصابة بضعف السمع :                               </a:t>
            </a:r>
            <a:br>
              <a:rPr sz="4000"/>
            </a:br>
            <a:r>
              <a:rPr b="1" lang="ar-SA" sz="3600" spc="-1" strike="noStrike">
                <a:solidFill>
                  <a:srgbClr val="003399"/>
                </a:solidFill>
                <a:latin typeface="Garamond"/>
              </a:rPr>
              <a:t>الأذن المعرَّضة للضوضاء لفترات طويلة تفقد حساسيتها للسمع</a:t>
            </a:r>
            <a:br>
              <a:rPr sz="3600"/>
            </a:br>
            <a:r>
              <a:rPr b="1" lang="ar-SA" sz="3600" spc="-1" strike="noStrike">
                <a:solidFill>
                  <a:srgbClr val="003399"/>
                </a:solidFill>
                <a:latin typeface="Garamond"/>
              </a:rPr>
              <a:t>و يضعف السمع تبعاً لذلك تدريجيَّاً ، و قد تصاب الأذن بصمام</a:t>
            </a:r>
            <a:r>
              <a:rPr b="1" lang="ar-SA" sz="36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1" lang="ar-SA" sz="3600" spc="-1" strike="noStrike">
                <a:solidFill>
                  <a:srgbClr val="003399"/>
                </a:solidFill>
                <a:latin typeface="Garamond"/>
              </a:rPr>
              <a:t>.</a:t>
            </a:r>
            <a:br>
              <a:rPr sz="3600"/>
            </a:b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1:18:03Z</dcterms:created>
  <dc:creator>Mohammed</dc:creator>
  <dc:description/>
  <dc:language>en-US</dc:language>
  <cp:lastModifiedBy>user</cp:lastModifiedBy>
  <dcterms:modified xsi:type="dcterms:W3CDTF">2011-05-21T12:42:23Z</dcterms:modified>
  <cp:revision>16</cp:revision>
  <dc:subject/>
  <dc:title>منهج العلوم للصف السادس الإبتدائى للفصل  الدراسى الثانى   إعداد الطالب : أحمد محمد فتحى . محافظة حلـــــــــــــــوان بالقاهرة  وزارة التربية و التعليم جمهــــــــوريــة مصـــــر العـــربيــة</dc:title>
</cp:coreProperties>
</file>