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413-1F93-43B0-831C-C11027A3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403-1D2D-4337-AFB7-DEEF0763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C58A-0B45-4803-A57D-780677C4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AE8-F873-4164-A5F4-2456D04A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818-52EB-4BC2-8D6E-82CF205C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892-8589-473F-A677-A95F5623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E8A-7B08-4746-8D67-9FECC26A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BD03-1D70-4A97-959F-D0D29639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8B66-90BA-45AA-AACF-CF07565F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2A0-D520-41C2-8475-33CAA936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42EC-7CD2-46BD-B87A-3B160CA9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D71-27F1-4AAF-B3C8-1F6A9111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BEB2-20E8-4DA1-B3C9-172B92DE44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372360" y="404640"/>
            <a:ext cx="24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84720" y="98100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السؤال الأو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91628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ا الترتيب الصحيح لسعة الذاكرة للأجهزة التالية بدءاً من الأصغر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2781360"/>
            <a:ext cx="838836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وب رئيسي, حاسوب شخصي  والمساعد الرقمي الشخصي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المساعد الرقمي الشخصي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DA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ar-A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حاسوب شخصي, حاسوب رئيس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وب شخصي, حاسوب رئيسي, المساعد الرقمي الشخصي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وب رئيسي, المساعد الرقمي الشخصي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), حاسوب شخصي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63120" y="765000"/>
            <a:ext cx="32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عا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162864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ا وظيفة نظام التشغيل الأساسية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2637000"/>
            <a:ext cx="7272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عمل التقارير و الرسائل وجداول البيا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تحكم في عمليات الحاس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تحكم في انتقال البيانات من وإلى وحدة المعالجة المركز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إعداد نسخة احتياطية لملفات الحاس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232960" y="765000"/>
            <a:ext cx="41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حادي ع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162864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ن السجلات التالية قد تحتوي على بيانات شخصية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7640" y="2637000"/>
            <a:ext cx="7272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قائمة بالمواد التي يتم تدريسها في الكل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قائمة بالكتب الموجودة في المكت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قائمة باستخدامات الحاسوب في المحال التجار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قائمة بيانات الموظفين العاملين في الشرك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72280" y="765000"/>
            <a:ext cx="40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ني ع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1628640"/>
            <a:ext cx="78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يتحقق الإبحار في واجهة المستخدم الرسومية باستخدام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2637000"/>
            <a:ext cx="7272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ماسح الضوئ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فأ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شاش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طابع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70480" y="836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لث ع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162864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ا أول مراحل تصميم وتنفيذ برنامج جديد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2637000"/>
            <a:ext cx="3887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خطيط اختبار النظا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صميم ملفات النظا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رسم بياني لتدفق البيا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جراء تحليل المتطلب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404680" y="765000"/>
            <a:ext cx="39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رابع ع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162864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توصيل أجهزة الحواسيب معاً في الشبكة يعن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2637000"/>
            <a:ext cx="7993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تطاعة المستخدم المشاركة في الملفات والموارد و الطابع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عدم الحاجة لاستخدام الطابع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عدم الحاجة للرسائل الإلكترون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أن تصبح أجهزة الحواسيب أكثر أمناً واستقراراً وأسهل في الاستخدا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113440" y="765000"/>
            <a:ext cx="43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خامس ع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1484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كيف يمكن إيصال مجموعة من اجهزة الحواسيب لشركة تنتشر مكاتبها على مساحة واسعة جغرافياً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924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عن طريق مجموعات العم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عن طريق الشبكة المحلي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عن طريق الشبكة واسعة النطا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N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عن طريق مجموعات المستخدم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86800" y="765000"/>
            <a:ext cx="44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دس ع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1628640"/>
            <a:ext cx="70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ن الخيارات التالية أفضل وصف للشبكة الخارجية؟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2637000"/>
            <a:ext cx="7993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شبكة الخارجية هي مجموعة شبكات من الحواسيب ممتدة حول أرجاء العالم ومتصلة مع بعض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شبكة خاصة من الحواسيب لشركة تتضمن مستخدمين محددين من خارج الشرك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شبكة الخارجية هي شبكة مصممة لمعالجة معلومات الشرك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هي مؤسسة تقوم بتوفير خدمة الشبكة العنكبية للأفراد وشركات الأعما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290200" y="836640"/>
            <a:ext cx="41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بع ع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1628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- يرمز ب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S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إل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خط الاشتراك الرقمي غير المتماث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خط الاشتراك الرقمي غير التزام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خط الرقمي المحاكي للنظي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جهاز الخط المماثل غير المتناس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67960" y="836640"/>
            <a:ext cx="40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من ع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162864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المهام التالية لا يستطيع الحاسوب أداءها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نسيق الملف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أليف المقالات الصحف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حرير الص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عمليات الحسا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295240" y="765000"/>
            <a:ext cx="41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تاسع ع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19280" y="1628640"/>
            <a:ext cx="72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في أي المنشآت التالية يستخدم نظام تسجيل المركبات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في المدار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في إدارة المر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في المستشفي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في المكتب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227640" y="76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السؤال الثان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557360"/>
            <a:ext cx="88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الاسم العام للأجهزة المتصلة بوحدة المعالجة المركزية ويتحكم بها المعال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2492280"/>
            <a:ext cx="3456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لوحات مفاتي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الشاش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الملحقات أول (الطرفيات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724000" y="76500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162864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الملفات التالية يمكن إرساله بالبريد الآلي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ستندات معالجة الكلمات فق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جداول البيانات فق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لايمكن إرسال أي مل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أي نوع من الملف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467240" y="765000"/>
            <a:ext cx="51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حادي و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1628640"/>
            <a:ext cx="72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تحتاج لشراء البضائع عن طريق الشبكة العنكبية إل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ب متصل بالماسح الضوئ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ب متصل بالطابع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ب متصل بالشبكة العنك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ب متصل بجها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VD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00440" y="765000"/>
            <a:ext cx="49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ني و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628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عند شراء السلع عن طريق الشبكة العنكبية, أي من الخيارات التالية يعتبر صحيحا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06864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يمكنك مقابلة البائع شخصي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يمكنك مقارنة أسعار السلع لباعة آخر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يمكنك حمل السلع بنفس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يمكنك إعادة السلع بعد شرائ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85320" y="765000"/>
            <a:ext cx="49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لث و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162864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مثال لبيئة عمل جيدة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2565360"/>
            <a:ext cx="7127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حواسيب متراصة جداً مع بعضها لجعل مساحة المكتب أكثر إفا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كتب يحصل فيه الموظفون على مقاعد غير قابلة للضب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كتب مصمم على أساس بيئة العمل الصح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عدم أخذ ظروف الإضاءة ومواضيع الحواسيب بعين الاعتب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19520" y="7650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رابع و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6286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مكن أن يمنع الإجهاد المتكرر والإجهاد البصري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2565360"/>
            <a:ext cx="6696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قضاء فترات راحة منتظمة بعيداً عن ال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وضع الصحيح للشاش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تخدام أدوات تحكم في سطوع / تباين الشاشة قابلة للضب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تخدام كرسي قابل للضب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303080" y="765000"/>
            <a:ext cx="53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خامس و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628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كمل العبارة الآتية: اتفاقية رخصة المستخدم هي رخصة ملحقة بالبرنامج 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068640"/>
            <a:ext cx="799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حماية الحاسب من جميع أنواع الفيروسات المعر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قييد المستخدم قانونياً في عقد الموزَ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حماية محركات الشبكة والبيانات في الشرك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إلزام المستخدم قانونياً بأن يكون موزَع برام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272120" y="765000"/>
            <a:ext cx="53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دس و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1628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الصحة والسلامة الأهم أثناء العمل على جهاز الحاسوب, أي مما يلي سيساعدك على منع الإصابات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306864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تخدام شاشات التوقف دائم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ضمان تكييف المكت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يجب تأمين جميع الأسلاك المكش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إطفاء الأنوار في نهاية اليو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10080" y="76500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بع و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628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عمل تلقائياً بعد توقفك عن العمل على الحاسوب لمدة تحددها بنفسك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306864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لوحة المفاتي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شاشة التوق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فأ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سماعات الصو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57600" y="765000"/>
            <a:ext cx="50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من و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628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عتبر طريقة أمنية مناسبة لحماية البيانات السرية للشرك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2637000"/>
            <a:ext cx="7993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وفير الوصول إلى البيانات للمستخدمين غير المصرح ل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وفير البيانات لأي شخ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وفير الوصول للبيانات فقط للأشخاص المصرح ل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عدم توفير البيانات لأي شخ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10080" y="76500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تاسع و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162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تستخدم كلمة المرو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2637000"/>
            <a:ext cx="799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لتسهيل الوصول لمعلومات ال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لحماية الحاسوب من المستخدمين غير المصرح ل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لتسهيل اتصال الحاسوب بالشبك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لمنح المستخدمين غير المصرح لهم حق صلاحية الدخول لحواسيب الشبك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372360" y="260280"/>
            <a:ext cx="24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83664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السؤال الثال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70028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العوامل التالية لها أكبر تأثير في تحسين  أداء الكمبيوتر الذي يعمل ببطء عند تشغيل بعض التطبيقات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92428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إضافة قرص مضغو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زيادة حجم الشاش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إضافة المزيد من الذاك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وضع شاشة توق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897520" y="765000"/>
            <a:ext cx="340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628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ليس من مساوئ استخدام الحاسوب المحمول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263700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خسارة الملفات المهمة التي لم يتم أخذ نسخة احتياطية عنها إلى مصدر خارج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حتمال سوء استخدام الوثائق المهمة أو السر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حتمال سوء الاستعمال لمعلومات اتصال مهمة مثل (عناوين بريد إلكتروني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40760" y="765000"/>
            <a:ext cx="48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حادي و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62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عتبر من أنواع فيروسات الحاسوب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إقلا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مل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حصان طروا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اكر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773960" y="765000"/>
            <a:ext cx="47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ني و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628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لا يمكن لفيروسات الحاسوب الانتقال عن طريق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غيير شاشة ال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حميل ملف من الشبكة العنك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بادل الملفات باستخدام الأقراص المرن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فتح ملحق البريد الإلكترو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759200" y="765000"/>
            <a:ext cx="47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لث و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162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تعرف انتهاك خصوصية البرمجيات ب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نسخة احتياطية غير معتمدة للبرام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استخدام غير المصرح به لأجهزة ال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تخدام نسخة غير مسجلة للبرام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عرض غير المعتمد لبرامج ال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793400" y="765000"/>
            <a:ext cx="46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رابع و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162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- لقد قمت بشراء مود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56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, تعود ال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56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 إلى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كلفة المود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حجم المود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سعة البيانات في المود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سرعة نقل البيانات في المود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476960" y="765000"/>
            <a:ext cx="50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خامس و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فضل وصف للمعلومات التكنولوجية أنها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637000"/>
            <a:ext cx="7993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ختصار صناعي لانتقال المعلومات في صناعة ال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قنية معلوماتية يمكن من خلالها نقل المعلومات بسرعة ذك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طريقة للتحويل بين الإشارات الرقمية و التشابهية داخل وحدة المعالجة المركزية لأي 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كل المنتجات و النشاطات في مجال صناعة المعلوماتية و الاتصال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445640" y="76500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دس و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62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جهاز ملحق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نظام التشغي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ذاك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وحدة المعالجة المركز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ماسح الضوئ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960" y="765000"/>
            <a:ext cx="48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بع و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1628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- ما هي وظيفة وحدة المعالجة و المنطق داخل و حدة المعالجة المركزية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)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2924280"/>
            <a:ext cx="7993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تحكم في القراءة و الكتابة على القرص الصل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قوم بأداء العمليات الحسا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تحكم في تدفق البيانات من وإلى وحدة المعالجة المركز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تحكم في تخزين المؤقت للبيانات في ذاكرة الدخول العشوائ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731120" y="765000"/>
            <a:ext cx="47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من و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628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ا اهمية إعداد نسخ احتياطية للبيانات على وسائط تخزين متنقلة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مساعدة في نقل البيا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حماية البيانات من الضياع في حالة تعطل ال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جعل البيانات متوفرة للعديد من المستخدم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تأكد من عدم ضياع قائمة المفضلة للمستخدم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960" y="765000"/>
            <a:ext cx="48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تاسع و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62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تعرف انتهاك خصوصية البرمجيات ب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نسخة احتياطية غير معتمدة للبرام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استخدام الغير مصرح به لأجهزة ال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تخدام نسخة غير مسجلة للبرام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عرض غير المعتمد لبرامج ال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796000" y="765000"/>
            <a:ext cx="28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السؤال الراب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155736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تقاس سرعة وحدة المعالجة المركزية ب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43640" y="2421000"/>
            <a:ext cx="2448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ت فالثان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يجاهرت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كيلوباي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او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795640" y="765000"/>
            <a:ext cx="35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628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عندما تشتري تطبيقاً لاستخدامك الشخصي يمكنك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2637000"/>
            <a:ext cx="799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يع البرامج بعد تنصيبه على الجها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نسخ البرامج وتبادلها مع غير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تخدامه على كل أجهزة الحاسوب الموجودة في الشرك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تخدامه على حاسوب واحد فق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38520" y="765000"/>
            <a:ext cx="49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حادي و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628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قد يعطي الزبائن بعض بياناتهم الشخصية إلى المحال التجارية, أي مما يلي يعد مخالفاً لقانون حماية البيانات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2924280"/>
            <a:ext cx="799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خزن المحلات التجارية أسماء العملاء والعناوين في قاعدة بيا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بادل البيانات مع مؤسسة أخر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حذف البيانات بعد معالجت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إرسال عروض خاصة إلى الزبائ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71720" y="765000"/>
            <a:ext cx="48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ني و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989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كم بت يوجد في البايت الواحد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2924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56960" y="765000"/>
            <a:ext cx="48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لث و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191628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جهاز إدخال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924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شاش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طابع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يكروفو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سماع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91160" y="765000"/>
            <a:ext cx="48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رابع و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03640" y="191628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جهاز إخراج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2924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وسادة اللم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سماع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لوحة المفاتي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فأ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374720" y="765000"/>
            <a:ext cx="52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خامس و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1916280"/>
            <a:ext cx="76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لحذف جميع المعلومات والبيانات من القرص المرن, عليك ب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2924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زيادة مساحت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هيئت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نظيف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فتحه باستخدام قرص صلب جد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343400" y="765000"/>
            <a:ext cx="52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دس و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7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البرامج التالية يستخدم في إدارة الملفات و المجلدات على الحاسوب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306864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رامج الخدم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رنامج نظام التشغي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رامج الشبك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رامج التطبيق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81720" y="765000"/>
            <a:ext cx="49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بع و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17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ستخدم في إجراء الحسابات المنزلية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306864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رنامج معالجة النصو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رنامج جداول البيا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رنامج النشر المكتب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رنامج فح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29240" y="76500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من و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2637000"/>
            <a:ext cx="799308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ستندات تستخدم في حواسيب معدة لأغراض علمية في كل أنحاء العال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جموعة من الوسائط المتعددة المتصلة على الشبكة و المستخدمة في التعلي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جموعة من صفحات الوسائط المتعددة المرتبطة فيما بينها والتي يمكن لأي شخص الوصول إليها عبر الشبكة العنك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شبكة من الحواسيب المتصلة مع بعضها بخطوط الهاتف و المستخدمة في عمليات الوسائط المتعددة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700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- أي مما يلي يعتبر أفضل وصف للشبكة العالمية العنكبية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81720" y="765000"/>
            <a:ext cx="49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تاسع و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7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المرحلة الثانية في دورة حياة البرامج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306864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اختب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تصمي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برمج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تحلي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88000" y="260280"/>
            <a:ext cx="183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6360" y="76500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السؤال الخام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557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ا نوع ذاكرة التخزين المستخدمة عند الحاجة إلى تخزين بيانات بشكل دائم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708280"/>
            <a:ext cx="2952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الذاكرة الأساس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662080" y="765000"/>
            <a:ext cx="37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17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- أي من الأوصاف التالية ينطبق على شبكة الاتصال المحلية </a:t>
            </a:r>
            <a:r>
              <a:rPr b="1" lang="ar-A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</a:t>
            </a:r>
            <a:r>
              <a:rPr b="1" lang="ar-AE" sz="2800" spc="-1" strike="noStrike">
                <a:solidFill>
                  <a:srgbClr val="000000"/>
                </a:solidFill>
                <a:latin typeface="Times New Roman"/>
              </a:rPr>
              <a:t>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2781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نظام تشغيل الشبك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م شركة تنتج برامج شبك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شبكة من الحواسيب المتباعدة جغرافي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شبكة من الحواسيب المستخدمة في موقع واح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405320" y="7650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حادي و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177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فضل تعبير عن الشبكة ان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2781360"/>
            <a:ext cx="799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شبكة معلومات داخلية متاحة فقط خارج شركة أو مكت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شبكة ممتدة حول العالم وتستخدم تقنية الوي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ستخدم في المنزل فق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شبكة خاصة بشركة وتستخدم تقنية الوي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38160" y="765000"/>
            <a:ext cx="50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ني و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17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ستخدم للبحث عن صفحات الويب في الشبكة العنكبية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2781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طبيق محاس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حرك بحث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طبيق بريد إلكترو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قاعدة بيا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23400" y="765000"/>
            <a:ext cx="50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لث و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177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المهام التالية لا يستطيع الحاسوب أداءها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2781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نسيق الملف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أليف المقالات الصحف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حرير الص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عمليات الحسا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57600" y="765000"/>
            <a:ext cx="50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رابع و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77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مكن استخدامه بحيث لا يستطيع أحد غير المستخدمين المسجلين من الوصول إلى الحاسوب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306864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رنامج مضاد الفيروس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كلمات المر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نسخ احتياط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تسل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241160" y="765000"/>
            <a:ext cx="53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خامس و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77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ن الطرق الجيدة لتأمين معلومات الشرك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2781360"/>
            <a:ext cx="799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لا توجد طريقة للتبليغ عن الاختراقات الأمن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أخذ نسخ احتياطية لملفات الحاسوب على نحو منتظ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عدم تغيير كلمات المرور للموظفين بانتظا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وفير البيانات السرية لأي شخ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209840" y="765000"/>
            <a:ext cx="54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دس و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77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ساعد على حماية البيئة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2781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طباعة سريع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نظيف كرة الفأ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إعادة استخدام ورق الطابع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خفض إضاءة الشاش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448160" y="765000"/>
            <a:ext cx="51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بع و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177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عد من مخاطر الحاسوب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2781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عدم استخدام شاشة التوق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فتح عدد كبير جداً من التطبيق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عدل قليل لتحديث الشاش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أسلاك كهرباء مكشوفة و غير آمن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495680" y="765000"/>
            <a:ext cx="51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من و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17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لتتمكن من استخدام البريد الإلكتروني, يجب استخدا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2781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طاقة صو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حساب عند مزود خدمة الشبكة العنك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تصفح الشبكة العنك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حرك البحث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448160" y="765000"/>
            <a:ext cx="51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تاسع و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17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ن الخيارات التالية يعد ميزة لشراء السلع والخدمات عن طريق الشبكة العنكبية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3068640"/>
            <a:ext cx="8424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ساعات العمل محدو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اتصال وجهاً لوجه مع الباع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إمكانك استرجاع ثمن السلع فور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شراء البضائع متوفر على مدى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ساعة في اليوم, وسبعة أيام في الأسبو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300720" y="83664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السؤال الساد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155736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كم بت يوجد في البايت الواحد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2492280"/>
            <a:ext cx="3598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2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954760" y="76500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ت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17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تحتاج لشراء البضائع عن طريق الشبكة العنكبية إل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2781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ب متصل بالماسح الضوئ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ب متصل بالطابع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ب متصل بالشبكة العنك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ب متصل بجها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VD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698000" y="765000"/>
            <a:ext cx="48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حادي والست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17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مثال على استخدام الحاسب لتعليم الطلبة في المدارس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2781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سجيل نتائج امتحانات الطل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تخدام الحاسب المعد للتدريب والاختب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إنتاج تقارير الطل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سجيل تفاصيل حضور الطل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831200" y="765000"/>
            <a:ext cx="47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ني والست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177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ن الأمثلة التالية أفضل مثال على استخدام أحد تطبيقات الحاسوب على نطاق واسع في المستشفيات لمراقبة المرضى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3141720"/>
            <a:ext cx="799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أدوات تشخيصية كأجهزة الأشعة المقطع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طبيق العرض التقديم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طبيق معالج النصو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طبيق متصفح الشبكة العنك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020000" y="549360"/>
            <a:ext cx="172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71400" y="836640"/>
            <a:ext cx="31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ب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77336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ن وسائط التخزين التالية يمتلك أكبر سعة تخزينية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76720" y="2565360"/>
            <a:ext cx="3598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القرص المضغو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القرص المدم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قرص صل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جيجاباي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VD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47000" y="692280"/>
            <a:ext cx="31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م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170028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ستدعي تهيئة القرص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2637000"/>
            <a:ext cx="54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1640" y="2565360"/>
            <a:ext cx="46814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لحماية البيانات في القر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حماية القرص من السرق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بحث عن الملفات في القر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حضير القرص لتخزين الملف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71400" y="765000"/>
            <a:ext cx="31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تاس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95640" y="1413000"/>
            <a:ext cx="47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170028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ن البرامج التالية ضروري لاستخدام الحاسوب الشخصي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2637000"/>
            <a:ext cx="4392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قاعدة البيا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جدول البيا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عالج النصو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نظام التشغي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8:05:42Z</dcterms:created>
  <dc:creator>alanood</dc:creator>
  <dc:description/>
  <dc:language>en-US</dc:language>
  <cp:lastModifiedBy>ويره</cp:lastModifiedBy>
  <dcterms:modified xsi:type="dcterms:W3CDTF">2007-03-22T22:25:37Z</dcterms:modified>
  <cp:revision>74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16533737</vt:r8>
  </property>
  <property fmtid="{D5CDD505-2E9C-101B-9397-08002B2CF9AE}" pid="3" name="_AuthorEmail">
    <vt:lpwstr>alanood@gia.gov.ae</vt:lpwstr>
  </property>
  <property fmtid="{D5CDD505-2E9C-101B-9397-08002B2CF9AE}" pid="4" name="_AuthorEmailDisplayName">
    <vt:lpwstr>Alanood Al Manaei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