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FD6D-5043-44C4-A9FE-260DE8E3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9CFA-6952-4790-9B6C-5429A7FE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FCD3-DA54-4C4F-B076-FC958B9D9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1445-80C1-489C-9E06-31EB5AC3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E015-FF03-4432-9E8F-7292A6AA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7BC9-E935-4EF2-B461-909BBCF1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D90C-4F85-451F-8986-735F60A2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B910-C1BC-4EDF-852E-CF05E6E0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7E41-4762-4F1C-8D43-76058D8C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7D77-B2BA-4A3B-A93E-21A0C3C4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1749-F1B0-4D7A-800E-A3850100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3201-1452-41C9-AB66-27F12C59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F849-E4DD-406E-BBEF-FD6EFCCB56A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372360" y="404640"/>
            <a:ext cx="24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84720" y="981000"/>
            <a:ext cx="27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السؤال الأو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191628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ما الترتيب الصحيح لسعة الذاكرة للأجهزة التالية بدءاً من الأصغر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2781360"/>
            <a:ext cx="838836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حاسوب رئيسي, حاسوب شخصي  والمساعد الرقمي الشخصي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AE" sz="2800" spc="-1" strike="noStrike">
                <a:solidFill>
                  <a:srgbClr val="000000"/>
                </a:solidFill>
                <a:latin typeface="Arial"/>
              </a:rPr>
              <a:t>المساعد الرقمي الشخصي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DA</a:t>
            </a:r>
            <a:r>
              <a:rPr b="1" lang="ar-AE" sz="28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ar-A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حاسوب شخصي, حاسوب رئيس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حاسوب شخصي, حاسوب رئيسي, المساعد الرقمي الشخصي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حاسوب رئيسي, المساعد الرقمي الشخصي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), حاسوب شخصي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063120" y="765000"/>
            <a:ext cx="323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عاش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40360" y="1628640"/>
            <a:ext cx="47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ما وظيفة نظام التشغيل الأساسية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47640" y="2637000"/>
            <a:ext cx="7272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عمل التقارير و الرسائل وجداول البيان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تحكم في عمليات الحاس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تحكم في انتقال البيانات من وإلى وحدة المعالجة المركز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إعداد نسخة احتياطية لملفات الحاس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232960" y="765000"/>
            <a:ext cx="415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حادي عش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79640" y="1628640"/>
            <a:ext cx="69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ن السجلات التالية قد تحتوي على بيانات شخصية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47640" y="2637000"/>
            <a:ext cx="7272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قائمة بالمواد التي يتم تدريسها في الكل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قائمة بالكتب الموجودة في المكتب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قائمة باستخدامات الحاسوب في المحال التجار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قائمة بيانات الموظفين العاملين في الشرك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72280" y="765000"/>
            <a:ext cx="40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ثاني عش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1628640"/>
            <a:ext cx="785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يتحقق الإبحار في واجهة المستخدم الرسومية باستخدام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2637000"/>
            <a:ext cx="7272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ماسح الضوئ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فأر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شاش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طابع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70480" y="83664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ثالث عش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48000" y="1628640"/>
            <a:ext cx="55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ما أول مراحل تصميم وتنفيذ برنامج جديد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32360" y="2637000"/>
            <a:ext cx="3887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خطيط اختبار النظا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صميم ملفات النظا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رسم بياني لتدفق البيان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جراء تحليل المتطلب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404680" y="765000"/>
            <a:ext cx="397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رابع عش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00360" y="1628640"/>
            <a:ext cx="61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توصيل أجهزة الحواسيب معاً في الشبكة يعن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2637000"/>
            <a:ext cx="79930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ستطاعة المستخدم المشاركة في الملفات والموارد و الطابع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عدم الحاجة لاستخدام الطابع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عدم الحاجة للرسائل الإلكترون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أن تصبح أجهزة الحواسيب أكثر أمناً واستقراراً وأسهل في الاستخدا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113440" y="765000"/>
            <a:ext cx="43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خامس عش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148428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كيف يمكن إيصال مجموعة من اجهزة الحواسيب لشركة تنتشر مكاتبها على مساحة واسعة جغرافياً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292428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عن طريق مجموعات العم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عن طريق الشبكة المحلية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عن طريق الشبكة واسعة النطا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N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عن طريق مجموعات المستخدمي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086800" y="765000"/>
            <a:ext cx="442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سادس عش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1628640"/>
            <a:ext cx="70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ن الخيارات التالية أفضل وصف للشبكة الخارجية؟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2637000"/>
            <a:ext cx="79930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شبكة الخارجية هي مجموعة شبكات من الحواسيب ممتدة حول أرجاء العالم ومتصلة مع بعض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شبكة خاصة من الحواسيب لشركة تتضمن مستخدمين محددين من خارج الشرك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شبكة الخارجية هي شبكة مصممة لمعالجة معلومات الشرك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هي مؤسسة تقوم بتوفير خدمة الشبكة العنكبية للأفراد وشركات الأعما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290200" y="836640"/>
            <a:ext cx="412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سابع عش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56000" y="162864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</a:rPr>
              <a:t>- يرمز ب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S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AE" sz="2800" spc="-1" strike="noStrike">
                <a:solidFill>
                  <a:srgbClr val="000000"/>
                </a:solidFill>
                <a:latin typeface="Arial"/>
              </a:rPr>
              <a:t>إلى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263700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خط الاشتراك الرقمي غير المتماث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خط الاشتراك الرقمي غير التزامن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خط الرقمي المحاكي للنظي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جهاز الخط المماثل غير المتناس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67960" y="836640"/>
            <a:ext cx="40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ثامن عش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00360" y="1628640"/>
            <a:ext cx="61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المهام التالية لا يستطيع الحاسوب أداءها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263700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نسيق الملف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أليف المقالات الصحف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حرير الصو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عمليات الحساب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295240" y="765000"/>
            <a:ext cx="412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تاسع عش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19280" y="1628640"/>
            <a:ext cx="727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في أي المنشآت التالية يستخدم نظام تسجيل المركبات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263700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في المدار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في إدارة المرو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في المستشفي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في المكتب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227640" y="765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السؤال الثان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557360"/>
            <a:ext cx="88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الاسم العام للأجهزة المتصلة بوحدة المعالجة المركزية ويتحكم بها المعالج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92720" y="2492280"/>
            <a:ext cx="3456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لوحات مفاتي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الشاش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الملحقات أول (الطرفيات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724000" y="765000"/>
            <a:ext cx="36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عشر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1628640"/>
            <a:ext cx="61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الملفات التالية يمكن إرساله بالبريد الآلي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6920" y="263700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مستندات معالجة الكلمات فق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جداول البيانات فق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لايمكن إرسال أي مل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أي نوع من الملف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467240" y="765000"/>
            <a:ext cx="510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حادي والعشر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19280" y="1628640"/>
            <a:ext cx="727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تحتاج لشراء البضائع عن طريق الشبكة العنكبية إلى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263700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حاسب متصل بالماسح الضوئ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حاسب متصل بالطابع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حاسب متصل بالشبكة العنكب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حاسب متصل بجهاز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VD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00440" y="765000"/>
            <a:ext cx="49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ثاني والعشر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162864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عند شراء السلع عن طريق الشبكة العنكبية, أي من الخيارات التالية يعتبر صحيحا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306864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يمكنك مقابلة البائع شخصيا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يمكنك مقارنة أسعار السلع لباعة آخري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يمكنك حمل السلع بنفس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يمكنك إعادة السلع بعد شرائ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85320" y="765000"/>
            <a:ext cx="49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ثالث والعشر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56000" y="1628640"/>
            <a:ext cx="45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ما يلي مثال لبيئة عمل جيدة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92360" y="2565360"/>
            <a:ext cx="71276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حواسيب متراصة جداً مع بعضها لجعل مساحة المكتب أكثر إفاد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مكتب يحصل فيه الموظفون على مقاعد غير قابلة للضب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مكتب مصمم على أساس بيئة العمل الصح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عدم أخذ ظروف الإضاءة ومواضيع الحواسيب بعين الاعتبا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619520" y="76500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رابع والعشر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03280" y="162864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ما يلي يمكن أن يمنع الإجهاد المتكرر والإجهاد البصري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2565360"/>
            <a:ext cx="66960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قضاء فترات راحة منتظمة بعيداً عن الحاسو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وضع الصحيح للشاش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ستخدام أدوات تحكم في سطوع / تباين الشاشة قابلة للضب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ستخدام كرسي قابل للضب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303080" y="765000"/>
            <a:ext cx="53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خامس والعشر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62864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كمل العبارة الآتية: اتفاقية رخصة المستخدم هي رخصة ملحقة بالبرنامج 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3068640"/>
            <a:ext cx="79930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حماية الحاسب من جميع أنواع الفيروسات المعروف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قييد المستخدم قانونياً في عقد الموزَ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حماية محركات الشبكة والبيانات في الشرك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إلزام المستخدم قانونياً بأن يكون موزَع برام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272120" y="765000"/>
            <a:ext cx="537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سادس والعشر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1628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الصحة والسلامة الأهم أثناء العمل على جهاز الحاسوب, أي مما يلي سيساعدك على منع الإصابات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306864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ستخدام شاشات التوقف دائما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ضمان تكييف المكت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يجب تأمين جميع الأسلاك المكشوف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إطفاء الأنوار في نهاية اليو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10080" y="76500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سابع والعشر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162864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ما يلي يعمل تلقائياً بعد توقفك عن العمل على الحاسوب لمدة تحددها بنفسك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306864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لوحة المفاتي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شاشة التوق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فأر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سماعات الصو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57600" y="765000"/>
            <a:ext cx="50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ثامن والعشر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162864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ما يلي يعتبر طريقة أمنية مناسبة لحماية البيانات السرية للشرك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2637000"/>
            <a:ext cx="79930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وفير الوصول إلى البيانات للمستخدمين غير المصرح له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وفير البيانات لأي شخ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وفير الوصول للبيانات فقط للأشخاص المصرح له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عدم توفير البيانات لأي شخ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10080" y="76500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تاسع والعشر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1628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تستخدم كلمة المرو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2637000"/>
            <a:ext cx="79930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لتسهيل الوصول لمعلومات الحاسو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لحماية الحاسوب من المستخدمين غير المصرح له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لتسهيل اتصال الحاسوب بالشبك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لمنح المستخدمين غير المصرح لهم حق صلاحية الدخول لحواسيب الشبكة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372360" y="260280"/>
            <a:ext cx="24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84720" y="83664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السؤال الثالث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1700280"/>
            <a:ext cx="82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العوامل التالية لها أكبر تأثير في تحسين  أداء الكمبيوتر الذي يعمل ببطء عند تشغيل بعض التطبيقات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924280"/>
            <a:ext cx="68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إضافة قرص مضغو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زيادة حجم الشاش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إضافة المزيد من الذاكر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وضع شاشة توق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897520" y="765000"/>
            <a:ext cx="340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ثلاث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162864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ما يلي ليس من مساوئ استخدام الحاسوب المحمول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6920" y="2637000"/>
            <a:ext cx="79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خسارة الملفات المهمة التي لم يتم أخذ نسخة احتياطية عنها إلى مصدر خارج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حتمال سوء استخدام الوثائق المهمة أو السر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حتمال سوء الاستعمال لمعلومات اتصال مهمة مثل (عناوين بريد إلكتروني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40760" y="765000"/>
            <a:ext cx="48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حادي والثلاث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1628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ما يلي يعتبر من أنواع فيروسات الحاسوب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263700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إقلا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مل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حصان طرواد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ماكرو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773960" y="765000"/>
            <a:ext cx="47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ثاني والثلاث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162864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لا يمكن لفيروسات الحاسوب الانتقال عن طريق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263700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غيير شاشة الحاسو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حميل ملف من الشبكة العنكب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بادل الملفات باستخدام الأقراص المرن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فتح ملحق البريد الإلكترون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759200" y="765000"/>
            <a:ext cx="47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ثالث والثلاث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1628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تعرف انتهاك خصوصية البرمجيات ب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263700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نسخة احتياطية غير معتمدة للبرام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استخدام غير المصرح به لأجهزة الحاسو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ستخدام نسخة غير مسجلة للبرام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عرض غير المعتمد لبرامج الحاسو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793400" y="765000"/>
            <a:ext cx="46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رابع والثلاث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1628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</a:rPr>
              <a:t>- لقد قمت بشراء مودم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56</a:t>
            </a:r>
            <a:r>
              <a:rPr b="1" lang="ar-AE" sz="2800" spc="-1" strike="noStrike">
                <a:solidFill>
                  <a:srgbClr val="000000"/>
                </a:solidFill>
                <a:latin typeface="Arial"/>
              </a:rPr>
              <a:t>, تعود ال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56</a:t>
            </a:r>
            <a:r>
              <a:rPr b="1" lang="ar-AE" sz="2800" spc="-1" strike="noStrike">
                <a:solidFill>
                  <a:srgbClr val="000000"/>
                </a:solidFill>
                <a:latin typeface="Arial"/>
              </a:rPr>
              <a:t> إلى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263700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كلفة المود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حجم المود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سعة البيانات في المود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سرعة نقل البيانات في المود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476960" y="765000"/>
            <a:ext cx="50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خامس والثلاث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628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فضل وصف للمعلومات التكنولوجية أنها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2637000"/>
            <a:ext cx="79930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ختصار صناعي لانتقال المعلومات في صناعة الحاسو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قنية معلوماتية يمكن من خلالها نقل المعلومات بسرعة ذك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طريقة للتحويل بين الإشارات الرقمية و التشابهية داخل وحدة المعالجة المركزية لأي حاسو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كل المنتجات و النشاطات في مجال صناعة المعلوماتية و الاتصال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445640" y="765000"/>
            <a:ext cx="51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سادس والثلاث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1628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ما يلي جهاز ملحق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263700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نظام التشغي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ذاكر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وحدة المعالجة المركز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ماسح الضوئ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683960" y="765000"/>
            <a:ext cx="48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سابع والثلاث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162864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</a:rPr>
              <a:t>- ما هي وظيفة وحدة المعالجة و المنطق داخل و حدة المعالجة المركزية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1" lang="ar-AE" sz="2800" spc="-1" strike="noStrike">
                <a:solidFill>
                  <a:srgbClr val="000000"/>
                </a:solidFill>
                <a:latin typeface="Arial"/>
              </a:rPr>
              <a:t>)؟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6920" y="2924280"/>
            <a:ext cx="79930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تحكم في القراءة و الكتابة على القرص الصل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قوم بأداء العمليات الحساب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تحكم في تدفق البيانات من وإلى وحدة المعالجة المركز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تحكم في تخزين المؤقت للبيانات في ذاكرة الدخول العشوائ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731120" y="765000"/>
            <a:ext cx="47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ثامن والثلاث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162864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ما اهمية إعداد نسخ احتياطية للبيانات على وسائط تخزين متنقلة؟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6920" y="263700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مساعدة في نقل البيان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حماية البيانات من الضياع في حالة تعطل الحاسو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جعل البيانات متوفرة للعديد من المستخدمي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تأكد من عدم ضياع قائمة المفضلة للمستخدمي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960" y="765000"/>
            <a:ext cx="48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تاسع والثلاث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628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تعرف انتهاك خصوصية البرمجيات ب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263700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نسخة احتياطية غير معتمدة للبرام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استخدام الغير مصرح به لأجهزة الحاسو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ستخدام نسخة غير مسجلة للبرام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عرض غير المعتمد لبرامج الحاسو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796000" y="765000"/>
            <a:ext cx="28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السؤال الراب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16360" y="1557360"/>
            <a:ext cx="59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تقاس سرعة وحدة المعالجة المركزية ب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43640" y="2421000"/>
            <a:ext cx="2448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بت فالثان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ميجاهرت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كيلوباي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باو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795640" y="765000"/>
            <a:ext cx="352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أربع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62864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عندما تشتري تطبيقاً لاستخدامك الشخصي يمكنك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6920" y="2637000"/>
            <a:ext cx="79930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بيع البرامج بعد تنصيبه على الجها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نسخ البرامج وتبادلها مع غير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ستخدامه على كل أجهزة الحاسوب الموجودة في الشرك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ستخدامه على حاسوب واحد فق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538520" y="765000"/>
            <a:ext cx="49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حادي والأربع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1628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قد يعطي الزبائن بعض بياناتهم الشخصية إلى المحال التجارية, أي مما يلي يعد مخالفاً لقانون حماية البيانات؟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6920" y="2924280"/>
            <a:ext cx="79930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خزن المحلات التجارية أسماء العملاء والعناوين في قاعدة بيان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بادل البيانات مع مؤسسة أخر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حذف البيانات بعد معالجت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إرسال عروض خاصة إلى الزبائ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671720" y="765000"/>
            <a:ext cx="486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ثاني والأربع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198900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كم بت يوجد في البايت الواحد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6920" y="292428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56960" y="765000"/>
            <a:ext cx="488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ثالث والأربع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03640" y="1916280"/>
            <a:ext cx="38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ما يلي جهاز إدخال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292428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شاش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طابع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ميكروفو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سماع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691160" y="765000"/>
            <a:ext cx="481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رابع والأربع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03640" y="1916280"/>
            <a:ext cx="38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ما يلي جهاز إخراج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6920" y="292428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وسادة اللم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سماع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لوحة المفاتي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فأر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374720" y="765000"/>
            <a:ext cx="52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خامس والأربع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58920" y="1916280"/>
            <a:ext cx="76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لحذف جميع المعلومات والبيانات من القرص المرن, عليك ب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6920" y="292428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زيادة مساحت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هيئت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نظيف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فتحه باستخدام قرص صلب جدي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343400" y="765000"/>
            <a:ext cx="526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سادس والأربع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177336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البرامج التالية يستخدم في إدارة الملفات و المجلدات على الحاسوب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306864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برامج الخدم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برنامج نظام التشغي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برامج الشبك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برامج التطبيق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81720" y="765000"/>
            <a:ext cx="49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سابع والأربع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177336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ما يلي يستخدم في إجراء الحسابات المنزلية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26920" y="306864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برنامج معالجة النصو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برنامج جداول البيان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برنامج النشر المكتب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برنامج فح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629240" y="765000"/>
            <a:ext cx="49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ثامن والأربع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26920" y="2637000"/>
            <a:ext cx="799308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مستندات تستخدم في حواسيب معدة لأغراض علمية في كل أنحاء العال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مجموعة من الوسائط المتعددة المتصلة على الشبكة و المستخدمة في التعلي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مجموعة من صفحات الوسائط المتعددة المرتبطة فيما بينها والتي يمكن لأي شخص الوصول إليها عبر الشبكة العنكب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شبكة من الحواسيب المتصلة مع بعضها بخطوط الهاتف و المستخدمة في عمليات الوسائط المتعددة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1700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</a:rPr>
              <a:t>- أي مما يلي يعتبر أفضل وصف للشبكة العالمية العنكبية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1" lang="ar-AE" sz="2800" spc="-1" strike="noStrike">
                <a:solidFill>
                  <a:srgbClr val="000000"/>
                </a:solidFill>
                <a:latin typeface="Arial"/>
              </a:rPr>
              <a:t>)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81720" y="765000"/>
            <a:ext cx="49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تاسع والأربع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177336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ما يلي المرحلة الثانية في دورة حياة البرامج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26920" y="306864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اختبا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تصمي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برمج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تحلي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588000" y="260280"/>
            <a:ext cx="183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56360" y="765000"/>
            <a:ext cx="26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السؤال الخام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55736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ما نوع ذاكرة التخزين المستخدمة عند الحاجة إلى تخزين بيانات بشكل دائم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2708280"/>
            <a:ext cx="2952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M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الذاكرة الأساس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U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662080" y="765000"/>
            <a:ext cx="37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خمس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177336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</a:rPr>
              <a:t>- أي من الأوصاف التالية ينطبق على شبكة الاتصال المحلية </a:t>
            </a:r>
            <a:r>
              <a:rPr b="1" lang="ar-AE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N</a:t>
            </a:r>
            <a:r>
              <a:rPr b="1" lang="ar-AE" sz="2800" spc="-1" strike="noStrike">
                <a:solidFill>
                  <a:srgbClr val="000000"/>
                </a:solidFill>
                <a:latin typeface="Times New Roman"/>
              </a:rPr>
              <a:t>)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278136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نظام تشغيل الشبك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سم شركة تنتج برامج شبك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شبكة من الحواسيب المتباعدة جغرافيا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شبكة من الحواسيب المستخدمة في موقع واح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405320" y="76500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حادي والخمس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1773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فضل تعبير عن الشبكة انها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5640" y="2781360"/>
            <a:ext cx="79930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شبكة معلومات داخلية متاحة فقط خارج شركة أو مكت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شبكة ممتدة حول العالم وتستخدم تقنية الوي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ستخدم في المنزل فق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شبكة خاصة بشركة وتستخدم تقنية الوي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538160" y="765000"/>
            <a:ext cx="50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ثاني والخمس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8360" y="177336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ما يلي يستخدم للبحث عن صفحات الويب في الشبكة العنكبية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55640" y="278136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طبيق محاسب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محرك بحث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طبيق بريد إلكترون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قاعدة بيان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523400" y="765000"/>
            <a:ext cx="50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ثالث والخمس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1773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المهام التالية لا يستطيع الحاسوب أداءها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5640" y="278136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نسيق الملف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أليف المقالات الصحف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حرير الصو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عمليات الحساب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57600" y="765000"/>
            <a:ext cx="50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رابع والخمس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177336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ما يلي يمكن استخدامه بحيث لا يستطيع أحد غير المستخدمين المسجلين من الوصول إلى الحاسوب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26920" y="306864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برنامج مضاد الفيروس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كلمات المرو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نسخ احتياط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تسل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241160" y="765000"/>
            <a:ext cx="53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خامس والخمس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1773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من الطرق الجيدة لتأمين معلومات الشرك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5640" y="2781360"/>
            <a:ext cx="79930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لا توجد طريقة للتبليغ عن الاختراقات الأمن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أخذ نسخ احتياطية لملفات الحاسوب على نحو منتظ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عدم تغيير كلمات المرور للموظفين بانتظا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وفير البيانات السرية لأي شخ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209840" y="765000"/>
            <a:ext cx="54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سادس والخمس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1773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ما يلي يساعد على حماية البيئة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5640" y="278136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طباعة سريعا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نظيف كرة الفأر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إعادة استخدام ورق الطابع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خفض إضاءة الشاش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448160" y="765000"/>
            <a:ext cx="51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سابع والخمس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1773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ما يلي يعد من مخاطر الحاسوب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5640" y="278136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عدم استخدام شاشة التوق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فتح عدد كبير جداً من التطبيق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معدل قليل لتحديث الشاش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أسلاك كهرباء مكشوفة و غير آمنة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495680" y="765000"/>
            <a:ext cx="51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ثامن والخمس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8360" y="177336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لتتمكن من استخدام البريد الإلكتروني, يجب استخدا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5640" y="278136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بطاقة صو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حساب عند مزود خدمة الشبكة العنكب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متصفح الشبكة العنكب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محرك البحث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448160" y="765000"/>
            <a:ext cx="51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تاسع والخمس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177336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ن الخيارات التالية يعد ميزة لشراء السلع والخدمات عن طريق الشبكة العنكبية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3068640"/>
            <a:ext cx="8424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ساعات العمل محدود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اتصال وجهاً لوجه مع الباع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بإمكانك استرجاع ثمن السلع فورا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شراء البضائع متوفر على مدى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ساعة في اليوم, وسبعة أيام في الأسبو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300720" y="83664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السؤال الساد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71640" y="155736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كم بت يوجد في البايت الواحد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19640" y="2492280"/>
            <a:ext cx="3598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2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5954760" y="76500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ست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" y="177336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تحتاج لشراء البضائع عن طريق الشبكة العنكبية إلى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278136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حاسب متصل بالماسح الضوئ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حاسب متصل بالطابع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حاسب متصل بالشبكة العنكب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حاسب متصل بجهاز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VD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698000" y="765000"/>
            <a:ext cx="48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حادي والست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8360" y="177336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ما يلي مثال على استخدام الحاسب لتعليم الطلبة في المدارس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5640" y="278136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سجيل نتائج امتحانات الطلب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ستخدام الحاسب المعد للتدريب والاختبا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إنتاج تقارير الطلب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سجيل تفاصيل حضور الطلب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831200" y="765000"/>
            <a:ext cx="47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ثاني والست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8360" y="177336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ن الأمثلة التالية أفضل مثال على استخدام أحد تطبيقات الحاسوب على نطاق واسع في المستشفيات لمراقبة المرضى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5640" y="3141720"/>
            <a:ext cx="7993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أدوات تشخيصية كأجهزة الأشعة المقطع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طبيق العرض التقديم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طبيق معالج النصو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طبيق متصفح الشبكة العنكب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020000" y="549360"/>
            <a:ext cx="172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71400" y="836640"/>
            <a:ext cx="31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ساب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177336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ن وسائط التخزين التالية يمتلك أكبر سعة تخزينية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76720" y="2565360"/>
            <a:ext cx="3598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القرص المضغو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القرص المدم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قرص صلب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جيجاباي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VD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147000" y="692280"/>
            <a:ext cx="31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ثام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170028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ما يلي يستدعي تهيئة القرص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48000" y="2637000"/>
            <a:ext cx="54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11640" y="2565360"/>
            <a:ext cx="46814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لحماية البيانات في القر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حماية القرص من السرق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البحث عن الملفات في القر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تحضير القرص لتخزين الملف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eee"/>
            </a:gs>
            <a:gs pos="50000">
              <a:srgbClr val="ffcccc"/>
            </a:gs>
            <a:gs pos="100000">
              <a:srgbClr val="ffee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071400" y="765000"/>
            <a:ext cx="31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سؤال التاس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95640" y="1413000"/>
            <a:ext cx="475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1700280"/>
            <a:ext cx="82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أي من البرامج التالية ضروري لاستخدام الحاسوب الشخصي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56000" y="2637000"/>
            <a:ext cx="4392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قاعدة البيان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جدول البيان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معالج النصو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نظام التشغي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8:05:42Z</dcterms:created>
  <dc:creator>alanood</dc:creator>
  <dc:description/>
  <dc:language>en-US</dc:language>
  <cp:lastModifiedBy>ويره</cp:lastModifiedBy>
  <dcterms:modified xsi:type="dcterms:W3CDTF">2007-03-22T22:25:37Z</dcterms:modified>
  <cp:revision>74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16533737</vt:r8>
  </property>
  <property fmtid="{D5CDD505-2E9C-101B-9397-08002B2CF9AE}" pid="3" name="_AuthorEmail">
    <vt:lpwstr>alanood@gia.gov.ae</vt:lpwstr>
  </property>
  <property fmtid="{D5CDD505-2E9C-101B-9397-08002B2CF9AE}" pid="4" name="_AuthorEmailDisplayName">
    <vt:lpwstr>Alanood Al Manaei</vt:lpwstr>
  </property>
  <property fmtid="{D5CDD505-2E9C-101B-9397-08002B2CF9AE}" pid="5" name="_EmailSubject">
    <vt:lpwstr/>
  </property>
  <property fmtid="{D5CDD505-2E9C-101B-9397-08002B2CF9AE}" pid="6" name="_ReviewingToolsShownOnce">
    <vt:lpwstr/>
  </property>
</Properties>
</file>