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B9F0-2DE1-4962-9642-E419AF70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4366-8D72-4055-AD25-FC671002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6F1-FF62-4CA7-84FD-7270A7C6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048-957D-444E-B7B1-BB6773B4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2A37-65FC-43D0-A7E5-89CEAAED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8876-05D7-4206-9872-01DB1411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A1A5-2B6F-4823-996F-12BAE857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7DF9-3A7A-403D-B77B-33286C54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25C5-1AD9-4953-B830-CFB41F68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01B1-6BF8-44A2-B26D-1F558435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C280-4952-42F6-B32C-3E940BD9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E9A-BE26-45A3-A7AF-7B99B6AF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34EB-04D3-4CC0-9FFA-CEC0A3CA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5174-331F-4C0F-8B54-D89D4AB2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5EE7-FB44-410F-AE38-87E37FAB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AC7E-58F5-4417-BCF0-550B3C44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6DB6-8C17-4201-8883-855035E2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639-EAE2-4214-8C6D-EA4EE268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D25-C6F6-44C2-BB69-686EE016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DC68-ACE2-4EAF-8A76-F164BCEF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A61-7793-4787-96BE-BE77A1E1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1AA2-8139-4053-A1C0-41C6C3DD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C45-680D-4175-9676-649E7167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551-F860-495A-B57A-31D23CB5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8320" y="6526800"/>
            <a:ext cx="28958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3366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3366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36F0-13BB-4993-B478-50551804895B}" type="slidenum">
              <a:rPr b="1" lang="ar-SA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3366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3366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10800" y="5962320"/>
            <a:ext cx="5857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8A8C-E381-4A69-83FF-53AF8A5E1F54}" type="slidenum">
              <a:rPr b="1" lang="ar-SA" sz="2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816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شركة حماية البيئة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88000" y="2420640"/>
            <a:ext cx="3898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  <a:cs typeface="Arabic Transparent"/>
              </a:rPr>
              <a:t>نحن شركة تعمل للحفاظ على البيئة منذ العام </a:t>
            </a:r>
            <a:r>
              <a:rPr b="0" lang="ar-AE" sz="2400" spc="-1" strike="noStrike">
                <a:solidFill>
                  <a:srgbClr val="003366"/>
                </a:solidFill>
                <a:latin typeface="Arial"/>
                <a:ea typeface="Arabic Transparent"/>
              </a:rPr>
              <a:t>199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  <a:cs typeface="Arabic Transparent"/>
              </a:rPr>
              <a:t>حي التعاون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  <a:cs typeface="Arabic Transparent"/>
              </a:rPr>
              <a:t>شارع السلا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  <a:cs typeface="Arabic Transparent"/>
              </a:rPr>
              <a:t>تقاطع الأنها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3456000" cy="273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708360" y="333360"/>
            <a:ext cx="1600200" cy="14479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إعادة تصنيع الزجاج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39840" y="3238560"/>
          <a:ext cx="7351560" cy="28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9840" y="3238560"/>
                    <a:ext cx="7351560" cy="28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الهدف من إعادة التصني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2361960"/>
            <a:ext cx="8664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3366"/>
                </a:solidFill>
                <a:latin typeface="Verdana"/>
                <a:cs typeface="Arabic Transparent"/>
              </a:rPr>
              <a:t>يتخلص كل منزل من النفايات بمعدل ا طن سنويا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3366"/>
                </a:solidFill>
                <a:latin typeface="Verdana"/>
                <a:cs typeface="Arabic Transparent"/>
              </a:rPr>
              <a:t>ولا توجد أماكن كافية لردم هذه النفايات أو احراقها.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3366"/>
                </a:solidFill>
                <a:latin typeface="Verdana"/>
                <a:cs typeface="Arabic Transparent"/>
              </a:rPr>
              <a:t>ويعادل هذا الوزن وزن جميع الأشخاص في المدينة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171360"/>
            <a:ext cx="2641680" cy="8002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ماذا يمكنك إعادة تصنيعه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6201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تعيد شركة حماية البيئة تصنيع العديد من الموا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3040" y="825480"/>
          <a:ext cx="8877600" cy="876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825480"/>
                    <a:ext cx="8877600" cy="876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914400" y="5562720"/>
            <a:ext cx="1600200" cy="1066680"/>
          </a:xfrm>
          <a:prstGeom prst="star5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67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الرسم البياني لإعادة التصنيع خلال الربع الأول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17440" y="2286000"/>
          <a:ext cx="748512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7440" y="2286000"/>
                    <a:ext cx="748512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مخطط الإدارة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كيف نقدم المساعدة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Verdana"/>
                <a:cs typeface="Arabic Transparent"/>
              </a:rPr>
              <a:t>زيادة عدد حاويات إعادة     التصني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Verdana"/>
                <a:cs typeface="Arabic Transparent"/>
              </a:rPr>
              <a:t>توسيع رقعة نشاط              الشرك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Verdana"/>
                <a:cs typeface="Arabic Transparent"/>
              </a:rPr>
              <a:t>توعية الناس بأهمية إعادة    التصنيع</a:t>
            </a:r>
            <a:r>
              <a:rPr b="0" lang="ar-SA" sz="2400" spc="-1" strike="noStrike">
                <a:solidFill>
                  <a:srgbClr val="003366"/>
                </a:solidFill>
                <a:latin typeface="Verdana"/>
                <a:ea typeface="Arabic Transparent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Verdana"/>
                <a:cs typeface="Arabic Transparent"/>
              </a:rPr>
              <a:t>زيادة عدد مراكز إعادة       التصني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05120" y="2362320"/>
          <a:ext cx="193176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362320"/>
                    <a:ext cx="1931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إعادة تصنيع الور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70520" y="3488400"/>
            <a:ext cx="5116320" cy="1272600"/>
            <a:chOff x="2270520" y="3488400"/>
            <a:chExt cx="5116320" cy="1272600"/>
          </a:xfrm>
        </p:grpSpPr>
        <p:cxnSp>
          <p:nvCxnSpPr>
            <p:cNvPr id="115" name="_s23564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617080" y="3253680"/>
              <a:ext cx="216720" cy="1791360"/>
            </a:xfrm>
            <a:prstGeom prst="bentConnector3">
              <a:avLst>
                <a:gd name="adj1" fmla="val 4991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8" name="_s23562"/>
            <p:cNvCxnSpPr>
              <a:stCxn id="119" idx="0"/>
              <a:endCxn id="117" idx="2"/>
            </p:cNvCxnSpPr>
            <p:nvPr/>
          </p:nvCxnSpPr>
          <p:spPr>
            <a:xfrm flipV="1">
              <a:off x="4829760" y="4041360"/>
              <a:ext cx="2520" cy="2167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0" name="_s23560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3826080" y="3254040"/>
              <a:ext cx="216720" cy="1791360"/>
            </a:xfrm>
            <a:prstGeom prst="bentConnector3">
              <a:avLst>
                <a:gd name="adj1" fmla="val 49916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7" name="_s23558"/>
            <p:cNvSpPr/>
            <p:nvPr/>
          </p:nvSpPr>
          <p:spPr>
            <a:xfrm>
              <a:off x="3844800" y="3488400"/>
              <a:ext cx="1968480" cy="553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6240" rIns="156240" tIns="78120" bIns="7812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2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أنواع الورق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_s23559"/>
            <p:cNvSpPr/>
            <p:nvPr/>
          </p:nvSpPr>
          <p:spPr>
            <a:xfrm>
              <a:off x="2270520" y="4257720"/>
              <a:ext cx="1535040" cy="503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6240" rIns="156240" tIns="78120" bIns="7812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200" spc="-1" strike="noStrike">
                  <a:solidFill>
                    <a:srgbClr val="003366"/>
                  </a:solidFill>
                  <a:latin typeface="Times New Roman"/>
                  <a:cs typeface="Times New Roman"/>
                </a:rPr>
                <a:t>ورق مقوى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_s23561"/>
            <p:cNvSpPr/>
            <p:nvPr/>
          </p:nvSpPr>
          <p:spPr>
            <a:xfrm>
              <a:off x="4061520" y="4257720"/>
              <a:ext cx="1535040" cy="503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6240" rIns="156240" tIns="78120" bIns="7812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2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مجلات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" name="_s23563"/>
            <p:cNvSpPr/>
            <p:nvPr/>
          </p:nvSpPr>
          <p:spPr>
            <a:xfrm>
              <a:off x="5852160" y="4257720"/>
              <a:ext cx="1534680" cy="503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6240" rIns="156240" tIns="78120" bIns="7812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AE" sz="2200" spc="-1" strike="noStrike">
                  <a:solidFill>
                    <a:srgbClr val="000000"/>
                  </a:solidFill>
                  <a:latin typeface="Arial"/>
                  <a:cs typeface="Times New Roman"/>
                </a:rPr>
                <a:t>صحف يومية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إعادة تصنيع الألمنيو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040" y="2361960"/>
            <a:ext cx="8001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ملاحظات حول مستقبل أفضل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284720" y="2708280"/>
            <a:ext cx="4471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استخدام الأكياس البلاستيكية أكثر من مر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إعادة تصنيع الكؤوس والقواري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استخدام بقايا الخضار والفواكه كسماد طبيعي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116000" y="2708280"/>
            <a:ext cx="2895480" cy="2346480"/>
            <a:chOff x="1116000" y="2708280"/>
            <a:chExt cx="2895480" cy="234648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1116000" y="2708280"/>
              <a:ext cx="2895480" cy="23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1116000" y="2708280"/>
              <a:ext cx="2895480" cy="23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5:37:04Z</dcterms:created>
  <dc:creator>Roger</dc:creator>
  <dc:description/>
  <dc:language>en-US</dc:language>
  <cp:lastModifiedBy>MohdA</cp:lastModifiedBy>
  <dcterms:modified xsi:type="dcterms:W3CDTF">2004-08-05T12:22:51Z</dcterms:modified>
  <cp:revision>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nccwork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