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7F3-0AD8-4866-985F-A4013659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F72-274F-4481-BF87-4C70C56C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7AE-E439-4ACC-83AE-EDA7687C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13FF-9CF3-4419-8305-9952BC21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82E-A879-4D31-B5F9-5A803EA8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0AF-CCBE-4C1F-A7D6-B48DFE46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49E-AC95-4B12-B8C9-4B6A4EE6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434-E99E-4432-9777-82ED576F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F82-B820-4CB2-B8CF-51A8D563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975-F396-4BD6-81A2-59D6102D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C2B-6EE5-468F-8658-94C56F7C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B889-CF01-4B15-9000-5234DFF0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ACD8-B1E2-4E29-87D3-6A789B1BE0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محتو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ما هو التسويق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لماذا هو مفي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أهداف التسوي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فري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ماذا نقد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شاريع الحا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كيف يرفع التسويق م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بييعات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شرك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60440" y="2770560"/>
            <a:ext cx="8225640" cy="1685520"/>
            <a:chOff x="460440" y="2770560"/>
            <a:chExt cx="8225640" cy="1685520"/>
          </a:xfrm>
        </p:grpSpPr>
        <p:cxnSp>
          <p:nvCxnSpPr>
            <p:cNvPr id="75" name="_s21516"/>
            <p:cNvCxnSpPr>
              <a:stCxn id="76" idx="0"/>
              <a:endCxn id="77" idx="2"/>
            </p:cNvCxnSpPr>
            <p:nvPr/>
          </p:nvCxnSpPr>
          <p:spPr>
            <a:xfrm flipV="1" rot="16200000">
              <a:off x="5873400" y="2172960"/>
              <a:ext cx="282960" cy="2879280"/>
            </a:xfrm>
            <a:prstGeom prst="bentConnector3">
              <a:avLst>
                <a:gd name="adj1" fmla="val 49936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8" name="_s21514"/>
            <p:cNvCxnSpPr>
              <a:stCxn id="79" idx="0"/>
              <a:endCxn id="77" idx="2"/>
            </p:cNvCxnSpPr>
            <p:nvPr/>
          </p:nvCxnSpPr>
          <p:spPr>
            <a:xfrm flipV="1">
              <a:off x="4575600" y="3471480"/>
              <a:ext cx="3600" cy="282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0" name="_s21512"/>
            <p:cNvCxnSpPr>
              <a:stCxn id="81" idx="0"/>
              <a:endCxn id="77" idx="2"/>
            </p:cNvCxnSpPr>
            <p:nvPr/>
          </p:nvCxnSpPr>
          <p:spPr>
            <a:xfrm flipH="1" flipV="1" rot="5400000">
              <a:off x="2994120" y="2172960"/>
              <a:ext cx="282960" cy="2880000"/>
            </a:xfrm>
            <a:prstGeom prst="bentConnector3">
              <a:avLst>
                <a:gd name="adj1" fmla="val 49936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7" name="_s21510"/>
            <p:cNvSpPr/>
            <p:nvPr/>
          </p:nvSpPr>
          <p:spPr>
            <a:xfrm>
              <a:off x="3339720" y="2770560"/>
              <a:ext cx="2467440" cy="7012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360" rIns="126360" tIns="63000" bIns="630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سوي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1511"/>
            <p:cNvSpPr/>
            <p:nvPr/>
          </p:nvSpPr>
          <p:spPr>
            <a:xfrm>
              <a:off x="460440" y="3754080"/>
              <a:ext cx="2468160" cy="702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360" rIns="126360" tIns="63000" bIns="630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إداريو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1513"/>
            <p:cNvSpPr/>
            <p:nvPr/>
          </p:nvSpPr>
          <p:spPr>
            <a:xfrm>
              <a:off x="3339720" y="3754080"/>
              <a:ext cx="2467440" cy="702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360" rIns="126360" tIns="63000" bIns="630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مساعدو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1515"/>
            <p:cNvSpPr/>
            <p:nvPr/>
          </p:nvSpPr>
          <p:spPr>
            <a:xfrm>
              <a:off x="6218640" y="3754080"/>
              <a:ext cx="2467440" cy="702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360" rIns="126360" tIns="63000" bIns="630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موا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تسويق مهنت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تعريف بنفسنا في مجال الأعم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ما هو التسوي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التعرف بالأعمال كعلامات مسج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ضمان المحافظة على الأعمال بأعلى مستو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تطوير أسواق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51200" y="1600200"/>
          <a:ext cx="403092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600200"/>
                    <a:ext cx="403092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لماذا هو مفيد لنا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تعريف بمنتجاتنا المسج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تعريف بشركتنا للعالم و وكالات الإعل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تطوير التسوي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إرضاء العم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51055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أهداف التسوي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تعريف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أغمالنا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 كعلامة مسج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تعريف بنا بشكل واضح لدى الإعلا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سوواقنا</a:t>
            </a: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 و منافسين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معرفة و فهم احتياجات عملائن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إنشاء فرص إعل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فري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ماذا نق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مشاريع الح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9800" y="1600200"/>
          <a:ext cx="401184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00200"/>
                    <a:ext cx="401184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الموقع الإلكترو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إطلاق موقع إلكتروني جد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ضمان تعريف للشركة على مستوً عالٍ على شبكة الإنترن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إعلانات الصح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حملات إعلانية              كبيرة تبدأ من                 الربع التال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المنافسة في المطبوعات الوطن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كيف يرفع التسويق من            المبيع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40388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زيادة الشه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شهرة منتجاتنا المسج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تسجيل اسم الشركة تجاريا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يؤدي إلى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مبيعات أع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</a:rPr>
              <a:t>تحقيق رب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68840" y="1600200"/>
          <a:ext cx="39956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8840" y="1600200"/>
                    <a:ext cx="3995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667640" y="189000"/>
            <a:ext cx="129528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4:17:14Z</dcterms:created>
  <dc:creator>nccworker</dc:creator>
  <dc:description/>
  <dc:language>en-US</dc:language>
  <cp:lastModifiedBy>Andaleeb</cp:lastModifiedBy>
  <dcterms:modified xsi:type="dcterms:W3CDTF">2004-08-11T17:53:05Z</dcterms:modified>
  <cp:revision>10</cp:revision>
  <dc:subject/>
  <dc:title>Contents</dc:title>
</cp:coreProperties>
</file>