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LASER.WAV" ContentType="audio/x-wav"/>
  <Override PartName="/ppt/media/image4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12F-E2BA-4B89-AF4A-B9571F42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9360" y="569052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E1B-BF00-48D5-B12A-892715D3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0664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396-3331-4F72-B5BD-23DD5776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1080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224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3936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1080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8224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CF6-249F-4D7C-8DAF-1835CD0E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5CAE-FB18-4AAF-8D89-42FC89BE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7577-7BCB-45B8-8101-4564B2EC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72AD-63A0-4169-A06B-EF2498B6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7468-B69C-49D2-B0CB-4A2F6B2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D8CC-7D63-4F52-923D-9708949A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68440" y="320400"/>
            <a:ext cx="108820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FDEB-D3C0-414B-A078-E30D632E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E84-DE0A-4D5E-B660-EF215B01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BF5-2BC2-4581-AD85-51C2312F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0664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1825-15D9-4FF9-A535-724CD3F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A74F-102F-49B7-96C0-A765674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9360" y="569052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520D-0C2C-4E61-B67B-2C123403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0664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FA79-3D4D-4671-8D68-3A1EFE84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080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2240" y="263988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3936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1080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382240" y="5690520"/>
            <a:ext cx="36867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FFDB-1913-4611-8B94-27ED203C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6A7-FD2E-41F6-93FE-8805461F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3AA-ED32-4EDD-BEDA-3394E44A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477-A9DB-44F8-A031-91364BB9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8440" y="320400"/>
            <a:ext cx="108820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2A7-26DF-44F4-9BAF-52EF38CE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BDD-0205-4C67-AAB0-6095A81A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6640" y="569052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651-D7CA-430C-98DF-78D53488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936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6640" y="2639880"/>
            <a:ext cx="558756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39360" y="5690520"/>
            <a:ext cx="11450520" cy="2785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E08-2D8F-43C7-B279-3D5D304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56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360" y="2639880"/>
            <a:ext cx="1145052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1" marL="1039680" indent="-399960">
              <a:spcBef>
                <a:spcPts val="1125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2" marL="1600200" indent="-320760">
              <a:spcBef>
                <a:spcPts val="1125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3" marL="2239920" indent="-318960">
              <a:spcBef>
                <a:spcPts val="1125"/>
              </a:spcBef>
              <a:buClr>
                <a:srgbClr val="ffcc00"/>
              </a:buClr>
              <a:buFont typeface="Tahom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4" marL="2879640" indent="-318960">
              <a:spcBef>
                <a:spcPts val="1125"/>
              </a:spcBef>
              <a:buClr>
                <a:srgbClr val="ffcc00"/>
              </a:buClr>
              <a:buFont typeface="Tahom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Tahom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Tahom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4800" y="8721360"/>
            <a:ext cx="2666880" cy="63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21360"/>
            <a:ext cx="4054320" cy="63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23360" y="8721360"/>
            <a:ext cx="2666880" cy="639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ar-SA" sz="20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C20CE47-AE13-46D9-A4B1-4ED1FBFF9DDA}" type="slidenum">
              <a:rPr b="0" lang="ar-SA" sz="20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279440" y="1839960"/>
            <a:ext cx="1152216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9440" y="960120"/>
            <a:ext cx="1081080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5600" spc="-1" strike="noStrike">
                <a:solidFill>
                  <a:srgbClr val="ff6600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995400" y="8721720"/>
            <a:ext cx="2703600" cy="719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4410000" y="8721720"/>
            <a:ext cx="3981600" cy="719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9245160" y="8721720"/>
            <a:ext cx="2560680" cy="719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lstStyle>
            <a:lvl1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ar-SA" sz="20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00A3AC0-23A3-480F-9B40-EC05F297A80E}" type="slidenum">
              <a:rPr b="0" lang="ar-SA" sz="20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79440" y="2560680"/>
            <a:ext cx="11522160" cy="538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  <a:p>
            <a:pPr lvl="1" marL="639720" indent="0" algn="ctr">
              <a:spcBef>
                <a:spcPts val="9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lvl="2" marL="1279440" algn="ctr">
              <a:spcBef>
                <a:spcPts val="85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920960" algn="ctr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560680" algn="ctr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560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560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440" y="960120"/>
            <a:ext cx="1081080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b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ea typeface="Arial"/>
              </a:rPr>
              <a:t> مفكرة مدير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79080" y="5973480"/>
            <a:ext cx="10882440" cy="194796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4500" spc="-1" strike="noStrike">
                <a:solidFill>
                  <a:srgbClr val="ff6600"/>
                </a:solidFill>
                <a:latin typeface="Arial Black"/>
                <a:cs typeface="Arial"/>
              </a:rPr>
              <a:t>أجندة الأسبوع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4500" spc="-1" strike="noStrike">
                <a:solidFill>
                  <a:srgbClr val="ff6600"/>
                </a:solidFill>
                <a:latin typeface="Arial Black"/>
                <a:cs typeface="Arial"/>
              </a:rPr>
              <a:t>الدكتور عبد الله</a:t>
            </a:r>
            <a:endParaRPr b="0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28800" y="3432240"/>
            <a:ext cx="177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سبت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73440"/>
            <a:ext cx="125935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عة العاشرة صباحاً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ارة ميدانية لأقسام الشركة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48240"/>
            <a:ext cx="12522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يارة إلى المعرض الدولي للحاسب الآلي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قام في القاعة الرئيسية في مدينة المعارض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ea typeface="Arial"/>
              </a:rPr>
              <a:t> يوم الأحد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784600"/>
            <a:ext cx="128016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عة الواحدة و النصف بعد الظهر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داء عمل مع إدارة شركة التقنية الرقمية لبحث التعاون بين الشركتي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08600"/>
            <a:ext cx="12377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ليم جوائز رمزية للفائزين بيوم الإنتاج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</a:t>
            </a:r>
            <a:r>
              <a:rPr b="0" lang="ar-AE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خالد و ياس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66720"/>
            <a:ext cx="10882440" cy="127944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اثنين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212760" y="2560680"/>
            <a:ext cx="12376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عة الثامنة و النص صباحاً: اجتماع بالموظفين الجدد الذين تم تعينهم في الشركة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720960"/>
            <a:ext cx="128016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يظهر في الأسفل أسماء الموظفين و القسم الذي ينتمي إليه كل منهم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ثلاثاء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9720" y="2639880"/>
            <a:ext cx="564840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 algn="just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Tahoma"/>
              </a:rPr>
              <a:t>الساعة العاشرة و النصف صباحاً: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479520" indent="0" algn="just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Tahoma"/>
              </a:rPr>
              <a:t>اجتماع مع مندوبي المبيعات: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479520" indent="0" algn="just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Tahoma"/>
              </a:rPr>
              <a:t>أحمد، رائد و زيد.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479520" indent="0" algn="just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Tahoma"/>
              </a:rPr>
              <a:t>الموضوع بحث نسبة ارتفاع المبيعات و خاصة في الأشهر الماضية.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688080" y="2855880"/>
          <a:ext cx="5614920" cy="58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8080" y="2855880"/>
                    <a:ext cx="5614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أربعاء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9720" y="2639880"/>
            <a:ext cx="5648400" cy="5840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88000"/>
          </a:bodyPr>
          <a:p>
            <a:pPr marL="421920" indent="0" algn="r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لساعة الثانية و النصف ظهراً: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  <a:p>
            <a:pPr marL="421920" indent="0" algn="r" rtl="1">
              <a:spcBef>
                <a:spcPts val="9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9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جتماع مع المدير المالي و مدير و أعضاء فريق  الحسابات و المشتريات لمراجعة حسابات السنة الماضية و وضع ميزانية العام المقبل بشكلي مناسب للدراسات و التوقعات الملائمة لسياسة الشركة</a:t>
            </a:r>
            <a:r>
              <a:rPr b="0" lang="ar-AE" sz="39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3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264440" y="3002040"/>
          <a:ext cx="449892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4440" y="3002040"/>
                    <a:ext cx="44989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خميس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773440"/>
            <a:ext cx="128016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عة الحادية عشر و النصف صباحاً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تماع مع قسم البرمجة للتعرف على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</a:t>
            </a: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ث بر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 الشركة التي تم إطلاقها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376960"/>
            <a:ext cx="12695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ستماع للمحاضرة التي سيلقيها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هندس علي من قسم البرمجة حوول وضع البرامج في الشرك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880" rIns="128880" tIns="64440" bIns="64440" anchor="ctr">
            <a:noAutofit/>
          </a:bodyPr>
          <a:p>
            <a:pPr indent="0" algn="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4900" spc="-1" strike="noStrike">
                <a:solidFill>
                  <a:srgbClr val="ff6600"/>
                </a:solidFill>
                <a:latin typeface="Arial Black"/>
                <a:cs typeface="Arial"/>
              </a:rPr>
              <a:t>يوم الجمعة</a:t>
            </a:r>
            <a:endParaRPr b="0" lang="en-US" sz="49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352600"/>
            <a:ext cx="128016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ء يوم الإجازة مع العائل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من برنامج ترفيهي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760" y="7302600"/>
            <a:ext cx="1914480" cy="15732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00600"/>
            <a:ext cx="128016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يتضمن من نزهة في المنتزه المركزي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12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إضافة إلى زيارة الأقارب في المسا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9360" y="263520"/>
            <a:ext cx="17701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8440" y="320400"/>
            <a:ext cx="108820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 rtl="1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ar-AE" sz="5600" spc="-1" strike="noStrike">
                <a:solidFill>
                  <a:srgbClr val="ff6600"/>
                </a:solidFill>
                <a:latin typeface="Arial Black"/>
                <a:cs typeface="Arial"/>
              </a:rPr>
              <a:t>مجلس الإدارة</a:t>
            </a:r>
            <a:endParaRPr b="0" lang="en-US" sz="5600" spc="-1" strike="noStrike">
              <a:solidFill>
                <a:srgbClr val="ff6600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453960" y="7623000"/>
            <a:ext cx="1914480" cy="15735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5e574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28200" y="8934480"/>
            <a:ext cx="3173400" cy="3016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88440" y="3431160"/>
            <a:ext cx="8580600" cy="2203560"/>
            <a:chOff x="2188440" y="3431160"/>
            <a:chExt cx="8580600" cy="2203560"/>
          </a:xfrm>
        </p:grpSpPr>
        <p:cxnSp>
          <p:nvCxnSpPr>
            <p:cNvPr id="135" name="_s28707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7833240" y="3068280"/>
              <a:ext cx="230040" cy="2932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8706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6365160" y="4532400"/>
              <a:ext cx="230040" cy="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8705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4897080" y="3064320"/>
              <a:ext cx="230040" cy="2941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8701"/>
            <p:cNvSpPr/>
            <p:nvPr/>
          </p:nvSpPr>
          <p:spPr>
            <a:xfrm>
              <a:off x="5256360" y="3431160"/>
              <a:ext cx="2447640" cy="988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6160" rIns="236160" tIns="118080" bIns="118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د. عبد الله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28702"/>
            <p:cNvSpPr/>
            <p:nvPr/>
          </p:nvSpPr>
          <p:spPr>
            <a:xfrm>
              <a:off x="2188440" y="4649760"/>
              <a:ext cx="2707200" cy="9849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6160" rIns="236160" tIns="118080" bIns="118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جمال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28703"/>
            <p:cNvSpPr/>
            <p:nvPr/>
          </p:nvSpPr>
          <p:spPr>
            <a:xfrm>
              <a:off x="5125320" y="4649760"/>
              <a:ext cx="2707200" cy="9849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6160" rIns="236160" tIns="118080" bIns="118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عبد الرحمن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28704"/>
            <p:cNvSpPr/>
            <p:nvPr/>
          </p:nvSpPr>
          <p:spPr>
            <a:xfrm>
              <a:off x="8061840" y="4649760"/>
              <a:ext cx="2707200" cy="9849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36160" rIns="236160" tIns="118080" bIns="118080" anchor="ctr">
              <a:noAutofit/>
            </a:bodyPr>
            <a:p>
              <a:pPr algn="ctr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موسى</a:t>
              </a:r>
              <a:r>
                <a:rPr b="1" lang="ar-AE" sz="44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13:47:51Z</dcterms:created>
  <dc:creator>swdev</dc:creator>
  <dc:description/>
  <dc:language>en-US</dc:language>
  <cp:lastModifiedBy>Andaleeb</cp:lastModifiedBy>
  <dcterms:modified xsi:type="dcterms:W3CDTF">2004-08-11T17:48:35Z</dcterms:modified>
  <cp:revision>48</cp:revision>
  <dc:subject/>
  <dc:title>Title goes here</dc:title>
</cp:coreProperties>
</file>