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5252-99BD-449A-8B38-1CCCD14D7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68DF-CBEE-478E-B7D8-DACFB6519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AA02-18F1-459E-887C-6C868C96C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6B72-2525-4910-85A9-AE8FEC53F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6603-D762-470D-9FE0-0C0CA3F27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43A3-CC74-460B-B15E-F487FF11E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789B-DBD1-42FB-9F18-B0F121008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F8A9-1563-4DAF-B74C-6AFC2AF1E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0368-19AC-424F-974D-977F8A1C3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0C7B-4AF2-40A6-942F-0CA20907A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9237-C506-4B2B-BD12-A6A4742AD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5C6E-31EE-4F08-8C4D-11BD9D56A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C0B2D-F3DC-43BE-BBDE-7E4902018865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514080" y="2641680"/>
            <a:ext cx="2857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Arial"/>
              </a:rPr>
              <a:t>شركة إخوا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Arial"/>
              </a:rPr>
              <a:t>عاملة من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Arial"/>
              </a:rPr>
              <a:t>الريا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Arial"/>
              </a:rPr>
              <a:t>السعود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114800" y="3200400"/>
            <a:ext cx="2192400" cy="4038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51000" y="2363760"/>
            <a:ext cx="685800" cy="12193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0" y="1295280"/>
            <a:ext cx="431640" cy="7207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Arial"/>
              </a:rPr>
              <a:t>الفريق الرئيس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Arial"/>
              </a:rPr>
              <a:t>ملخص الأربا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38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9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800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9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860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99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1.4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1.1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346560" y="2940120"/>
          <a:ext cx="358776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6560" y="2940120"/>
                    <a:ext cx="358776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Arial"/>
              </a:rPr>
              <a:t>تطوير المنتج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7548480"/>
            <a:ext cx="6858000" cy="1247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505320" y="2666880"/>
          <a:ext cx="3019320" cy="547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3019320" cy="54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38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تضمن المنتجات الجديدة هذا الشهر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نوع أقواس مربعة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غسول مضاد للدموع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صنا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237680" y="4087080"/>
            <a:ext cx="4371120" cy="2115360"/>
            <a:chOff x="1237680" y="4087080"/>
            <a:chExt cx="4371120" cy="2115360"/>
          </a:xfrm>
        </p:grpSpPr>
        <p:cxnSp>
          <p:nvCxnSpPr>
            <p:cNvPr id="57" name="_s13326"/>
            <p:cNvCxnSpPr>
              <a:stCxn id="58" idx="0"/>
              <a:endCxn id="59" idx="2"/>
            </p:cNvCxnSpPr>
            <p:nvPr/>
          </p:nvCxnSpPr>
          <p:spPr>
            <a:xfrm flipV="1" rot="16200000">
              <a:off x="3993120" y="4379400"/>
              <a:ext cx="389160" cy="15303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0" name="_s13325"/>
            <p:cNvCxnSpPr>
              <a:stCxn id="61" idx="0"/>
              <a:endCxn id="59" idx="2"/>
            </p:cNvCxnSpPr>
            <p:nvPr/>
          </p:nvCxnSpPr>
          <p:spPr>
            <a:xfrm flipV="1">
              <a:off x="3422880" y="4950000"/>
              <a:ext cx="1800" cy="389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2" name="_s13324"/>
            <p:cNvCxnSpPr>
              <a:stCxn id="63" idx="0"/>
              <a:endCxn id="59" idx="2"/>
            </p:cNvCxnSpPr>
            <p:nvPr/>
          </p:nvCxnSpPr>
          <p:spPr>
            <a:xfrm flipH="1" flipV="1" rot="5400000">
              <a:off x="2463480" y="4379400"/>
              <a:ext cx="389160" cy="15303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9" name="_s13320"/>
            <p:cNvSpPr/>
            <p:nvPr/>
          </p:nvSpPr>
          <p:spPr>
            <a:xfrm>
              <a:off x="2767680" y="4087080"/>
              <a:ext cx="1311120" cy="8632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120" rIns="51120" tIns="25560" bIns="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AE" sz="2200" spc="-1" strike="noStrike">
                  <a:solidFill>
                    <a:srgbClr val="000000"/>
                  </a:solidFill>
                  <a:latin typeface="Times New Roman"/>
                  <a:cs typeface="Arabic Transparent"/>
                </a:rPr>
                <a:t>الأشياء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_s13321"/>
            <p:cNvSpPr/>
            <p:nvPr/>
          </p:nvSpPr>
          <p:spPr>
            <a:xfrm>
              <a:off x="1237680" y="5339160"/>
              <a:ext cx="1311120" cy="8632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120" rIns="51120" tIns="25560" bIns="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AE" sz="22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المنتج</a:t>
              </a:r>
              <a:r>
                <a:rPr b="0" lang="ar-AE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ar-AE" sz="2200" spc="-1" strike="noStrike">
                  <a:solidFill>
                    <a:srgbClr val="000000"/>
                  </a:solidFill>
                  <a:latin typeface="Times New Roman"/>
                  <a:ea typeface="Arabic Transparent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_s13322"/>
            <p:cNvSpPr/>
            <p:nvPr/>
          </p:nvSpPr>
          <p:spPr>
            <a:xfrm>
              <a:off x="2767680" y="5339160"/>
              <a:ext cx="1311120" cy="8632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120" rIns="51120" tIns="25560" bIns="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AE" sz="2200" spc="-1" strike="noStrike">
                  <a:solidFill>
                    <a:srgbClr val="000000"/>
                  </a:solidFill>
                  <a:latin typeface="Times New Roman"/>
                  <a:cs typeface="Arabic Transparent"/>
                </a:rPr>
                <a:t>المنتج</a:t>
              </a:r>
              <a:r>
                <a:rPr b="0" lang="ar-AE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ar-AE" sz="2200" spc="-1" strike="noStrike">
                  <a:solidFill>
                    <a:srgbClr val="000000"/>
                  </a:solidFill>
                  <a:latin typeface="Times New Roman"/>
                  <a:ea typeface="Arabic Transparent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_s13323"/>
            <p:cNvSpPr/>
            <p:nvPr/>
          </p:nvSpPr>
          <p:spPr>
            <a:xfrm>
              <a:off x="4297680" y="5339160"/>
              <a:ext cx="1311120" cy="8632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120" rIns="51120" tIns="25560" bIns="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AE" sz="2200" spc="-1" strike="noStrike">
                  <a:solidFill>
                    <a:srgbClr val="000000"/>
                  </a:solidFill>
                  <a:latin typeface="Times New Roman"/>
                  <a:cs typeface="Arabic Transparent"/>
                </a:rPr>
                <a:t>المنتج</a:t>
              </a:r>
              <a:r>
                <a:rPr b="0" lang="ar-AE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ar-AE" sz="1300" spc="-1" strike="noStrike">
                  <a:solidFill>
                    <a:srgbClr val="000000"/>
                  </a:solidFill>
                  <a:latin typeface="Times New Roman"/>
                  <a:ea typeface="Arabic Transparent"/>
                </a:rPr>
                <a:t>3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Arial"/>
              </a:rPr>
              <a:t>كلمة أخير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38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Arial"/>
              </a:rPr>
              <a:t>توقع الأرباح لوضع الميزانية في أبري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Arial"/>
              </a:rPr>
              <a:t>دفع مكافئات في حال نجحت الميزان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Arial"/>
              </a:rPr>
              <a:t>خمسة موظفين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جدد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Arial"/>
              </a:rPr>
              <a:t>في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ي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Arial"/>
              </a:rPr>
              <a:t>مواقف سيارات جدي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3505320" y="2641680"/>
          <a:ext cx="283824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41680"/>
                    <a:ext cx="283824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Arial"/>
              </a:rPr>
              <a:t>ملخص الربع السنوي لدورة رأس الما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914400" y="2743200"/>
          <a:ext cx="4927680" cy="460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743200"/>
                    <a:ext cx="4927680" cy="46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لحق أ </a:t>
            </a:r>
            <a:r>
              <a:rPr b="0" lang="ar-AE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14440" y="2641680"/>
            <a:ext cx="58291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2T15:37:04Z</dcterms:created>
  <dc:creator>Roger</dc:creator>
  <dc:description/>
  <dc:language>en-US</dc:language>
  <cp:lastModifiedBy>NCC ATS </cp:lastModifiedBy>
  <dcterms:modified xsi:type="dcterms:W3CDTF">2004-08-26T15:01:40Z</dcterms:modified>
  <cp:revision>27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nccwork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