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CARBRAKE.WAV" ContentType="audio/x-wav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6C5-3D02-4FAC-9723-8A6E7130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306-B8C3-4929-B072-D02E7123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AC2-AC68-49C4-ACE4-5C9A8A36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4F8-F736-451E-B1FC-0625D43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D50E-C400-4119-A66F-C3F02395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558D-82F6-4A08-8022-887798AE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C4F-57F8-4A75-BDAB-44FE1C21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763E-0270-423F-95AA-9344FF70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0DC5-5C21-4DBC-A070-B6B594C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396E-FC3A-43FF-8FFB-E083B4C5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BD90-4FFB-405B-B7A4-ED573E9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6BF-C519-456E-902E-23F878A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2338-6CD0-4630-A66A-5A7AFED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736D-193B-493B-B80A-58F1912A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7FD-7095-40A8-91A0-F02C5C86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23F6-45E4-46C9-B33C-248291C5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B622-8111-4C20-81D4-6A9FDFEE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CB0-C74C-4962-8A2F-2186B45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92B-FF97-4628-BC21-590D55F7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3F0-17C8-4F69-8812-79C43995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B73C-5EF7-473E-BA0C-4E69B14B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C28-FB4D-4E27-A0E8-58D64E0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529-A53E-488A-B19A-190B112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1DE-03EB-49D4-9883-9A6E8E9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DA2D-DB77-4DF0-A5F8-F51818B875EF}" type="slidenum">
              <a: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096-4DDB-4832-A709-5FF74EBC14B2}" type="slidenum">
              <a:rPr b="0" lang="ar-SA" sz="14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3738600"/>
            <a:ext cx="7848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08366"/>
                </a:solidFill>
                <a:latin typeface="Arial"/>
                <a:cs typeface="Arial"/>
              </a:rPr>
              <a:t>مخطط تفصيلي للتقنيات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4419720"/>
            <a:ext cx="5181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402000"/>
                </a:solidFill>
                <a:latin typeface="Times New Roman"/>
                <a:cs typeface="Arial"/>
              </a:rPr>
              <a:t>أحمد</a:t>
            </a:r>
            <a:r>
              <a:rPr b="0" lang="ar-SA" sz="1200" spc="-1" strike="noStrike">
                <a:solidFill>
                  <a:srgbClr val="402000"/>
                </a:solidFill>
                <a:latin typeface="Times New Roman"/>
                <a:ea typeface="Arial"/>
              </a:rPr>
              <a:t>: من فضلك افحص الإملاء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cs typeface="Times New Roman"/>
              </a:rPr>
              <a:t>مثال عن النموذج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369520" y="2424960"/>
            <a:ext cx="4861440" cy="1601280"/>
            <a:chOff x="2369520" y="2424960"/>
            <a:chExt cx="4861440" cy="1601280"/>
          </a:xfrm>
        </p:grpSpPr>
        <p:cxnSp>
          <p:nvCxnSpPr>
            <p:cNvPr id="147" name="_s22555"/>
            <p:cNvCxnSpPr>
              <a:stCxn id="148" idx="0"/>
              <a:endCxn id="149" idx="2"/>
            </p:cNvCxnSpPr>
            <p:nvPr/>
          </p:nvCxnSpPr>
          <p:spPr>
            <a:xfrm flipH="1" flipV="1" rot="5400000">
              <a:off x="4701960" y="3524040"/>
              <a:ext cx="196560" cy="216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cxnSp>
          <p:nvCxnSpPr>
            <p:cNvPr id="150" name="_s22556"/>
            <p:cNvCxnSpPr>
              <a:stCxn id="151" idx="0"/>
              <a:endCxn id="152" idx="2"/>
            </p:cNvCxnSpPr>
            <p:nvPr/>
          </p:nvCxnSpPr>
          <p:spPr>
            <a:xfrm flipV="1" rot="16200000">
              <a:off x="5547600" y="2078640"/>
              <a:ext cx="196560" cy="169380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cxnSp>
          <p:nvCxnSpPr>
            <p:cNvPr id="153" name="_s22557"/>
            <p:cNvCxnSpPr>
              <a:stCxn id="149" idx="0"/>
              <a:endCxn id="152" idx="2"/>
            </p:cNvCxnSpPr>
            <p:nvPr/>
          </p:nvCxnSpPr>
          <p:spPr>
            <a:xfrm flipV="1" rot="16200000">
              <a:off x="4701960" y="2924280"/>
              <a:ext cx="196560" cy="216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cxnSp>
          <p:nvCxnSpPr>
            <p:cNvPr id="154" name="_s22558"/>
            <p:cNvCxnSpPr>
              <a:stCxn id="155" idx="0"/>
              <a:endCxn id="152" idx="2"/>
            </p:cNvCxnSpPr>
            <p:nvPr/>
          </p:nvCxnSpPr>
          <p:spPr>
            <a:xfrm flipH="1" flipV="1" rot="5400000">
              <a:off x="3855960" y="2080440"/>
              <a:ext cx="196560" cy="1690560"/>
            </a:xfrm>
            <a:prstGeom prst="bentConnector3">
              <a:avLst>
                <a:gd name="adj1" fmla="val 49908"/>
              </a:avLst>
            </a:prstGeom>
            <a:ln w="12600">
              <a:solidFill>
                <a:srgbClr val="402000"/>
              </a:solidFill>
              <a:miter/>
            </a:ln>
          </p:spPr>
        </p:cxnSp>
        <p:sp>
          <p:nvSpPr>
            <p:cNvPr id="152" name="_s22559"/>
            <p:cNvSpPr/>
            <p:nvPr/>
          </p:nvSpPr>
          <p:spPr>
            <a:xfrm>
              <a:off x="4160160" y="2424960"/>
              <a:ext cx="1278360" cy="40284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إنكليزي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5" name="_s22560"/>
            <p:cNvSpPr/>
            <p:nvPr/>
          </p:nvSpPr>
          <p:spPr>
            <a:xfrm>
              <a:off x="2369520" y="3024000"/>
              <a:ext cx="1478520" cy="40320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قواعد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_s22561"/>
            <p:cNvSpPr/>
            <p:nvPr/>
          </p:nvSpPr>
          <p:spPr>
            <a:xfrm>
              <a:off x="4061160" y="3024000"/>
              <a:ext cx="1478160" cy="40320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أدب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_s22562"/>
            <p:cNvSpPr/>
            <p:nvPr/>
          </p:nvSpPr>
          <p:spPr>
            <a:xfrm>
              <a:off x="5752800" y="3024000"/>
              <a:ext cx="1478160" cy="40320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علم الصوتيات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_s22563"/>
            <p:cNvSpPr/>
            <p:nvPr/>
          </p:nvSpPr>
          <p:spPr>
            <a:xfrm>
              <a:off x="4160160" y="3623400"/>
              <a:ext cx="1278360" cy="402840"/>
            </a:xfrm>
            <a:prstGeom prst="rect">
              <a:avLst/>
            </a:prstGeom>
            <a:solidFill>
              <a:srgbClr val="ce9964"/>
            </a:solidFill>
            <a:ln w="1260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5200" bIns="252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200" spc="-1" strike="noStrike">
                  <a:solidFill>
                    <a:srgbClr val="402000"/>
                  </a:solidFill>
                  <a:latin typeface="Arial"/>
                  <a:cs typeface="Arabic Transparent"/>
                </a:rPr>
                <a:t>الرواية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996633"/>
                </a:solidFill>
                <a:latin typeface="Times New Roman"/>
                <a:cs typeface="Times New Roman"/>
              </a:rPr>
              <a:t>وأخيراً...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447920" y="2133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خذ استراحة</a:t>
            </a:r>
            <a:r>
              <a:rPr b="0" i="1" lang="ar-SA" sz="4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!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35268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ا يمكن لأي شخص أن يعمل بشكل متواصل لساعات طويلة دون اخذ فترات من الراحة.</a:t>
            </a:r>
            <a:endParaRPr b="0" lang="en-US" sz="4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96633"/>
                </a:solidFill>
                <a:latin typeface="Times New Roman"/>
                <a:cs typeface="Times New Roman"/>
              </a:rPr>
              <a:t>هيئة المراجعة</a:t>
            </a:r>
            <a:br>
              <a:rPr sz="4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176364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دى الكلّيّة موظّفين لمساعدتك في المراجعة. التخطيط الموجود في الأسفل يظهر الموظفين ودوره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1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cs typeface="Arial"/>
              </a:rPr>
              <a:t>البدء مبكرا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8600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يس هناك بديل لهذا. حشو المعلومات في الدّقيقة الأخيرة لن يؤدي إلى الاحتفاظ بالمعلومات لفترة طويلة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عندما تكون تحت ضغط وإجهاد الامتحان، يمكن أن تَتَأَثَّر ذاكرة المدّى القصير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إذا بدأت مبكّراً، يمكنك تحمّل قراءة وإعادة قراءة المعلومات التي تريد تذكرها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2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لمنهج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057400"/>
            <a:ext cx="746748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عند المراجعة، من المستحسن أن يكون معك نسخة من المنهج. هذا سيضمن تغطيتك لكل المواضيع، وتكون قادراً على تسجيل تقدمك في العمل المطلوب. 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يجب أن تحصل على المنهج من المحاضر، أو المدرّس أو مدرّب.</a:t>
            </a:r>
            <a:endParaRPr b="0" lang="en-US" sz="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جدول المواعيد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19320" y="1752480"/>
          <a:ext cx="746748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752480"/>
                    <a:ext cx="746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90720" y="388620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بعد دراسة المنهج، ينبغي أن ترسم جدولاً زمنياً حتى نعرف بالضبط متى تبدأ بكل موضوع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لجدول الجيد سيمكنك من مراجعة الموضوع مرة أخرى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قرأ المذكرات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571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حاول إيجاد بعض الكلمات الرّئيسيّة في مذكراتك والتي يمكن أن تستخدمها لتساعدك على التذكر. تلخيص المذكرات باستمرار سيؤدي إلى ذلك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bfae2"/>
                </a:solidFill>
                <a:latin typeface="Arial"/>
                <a:cs typeface="Arial"/>
              </a:rPr>
              <a:t>تلميح مفيد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95280" y="2057400"/>
            <a:ext cx="723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قد يبدو هذا بديهياً، لكنها أحد الأمور التي يغفل عنها دائماً. لقد وجد أن أحد الأساليب الممتازة للمراجعة هي استخدام المذكرات وإعادة كتابتها وتلخيصها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860640"/>
            <a:ext cx="1873440" cy="1368720"/>
          </a:xfrm>
          <a:prstGeom prst="star5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5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عمل في مجموعات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لعمل في مجموعات يساعدك على تغطية بعض الفجوات التي قد توجد لديك، و من المفيد إجراء اختبارات لبعضكم البعض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5219640" y="1989000"/>
            <a:ext cx="863640" cy="1008360"/>
          </a:xfrm>
          <a:prstGeom prst="upArrow">
            <a:avLst>
              <a:gd name="adj1" fmla="val 50000"/>
              <a:gd name="adj2" fmla="val 29189"/>
            </a:avLst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1916280"/>
            <a:ext cx="17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حاول العمل مع أشخاص يريدون المراجعة فعلاً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952880" y="3505320"/>
          <a:ext cx="381024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505320"/>
                    <a:ext cx="3810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6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خرائط العقل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96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لعمل خريطة، اكتب موضوع الدراسة بحروف ملونة كبيرة في وسط الصفح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كتب كلمات رئيسية حوله و اربطها بالكلمة المركزي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ربطهم بالعبارة المهمة الأخرى حتى تتكون خريطة واحدة كبير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لمفتاح لإبراز خريطة عقل مفيدة هو جعلها ملونة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905120"/>
            <a:ext cx="4608720" cy="1371600"/>
          </a:xfrm>
          <a:prstGeom prst="ellipse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581280"/>
            <a:ext cx="4608720" cy="1417680"/>
          </a:xfrm>
          <a:prstGeom prst="ellipse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8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لامتحانات السابقة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295280" y="2133720"/>
            <a:ext cx="7162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عندما تعتقد أنّك جاهز، حاول الإجابة على بعض أوراق الامتحانات من السّنوات الأخيرة. هذا سيعطيك إحساس بنوع الأسئلة التي قد تُسأل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805360"/>
            <a:ext cx="3059280" cy="28908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7</a:t>
            </a:r>
            <a:r>
              <a:rPr b="0" lang="ar-SA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الاختبار المنتظم</a:t>
            </a: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57150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02000"/>
                </a:solidFill>
                <a:latin typeface="Arial"/>
                <a:cs typeface="Times New Roman"/>
              </a:rPr>
              <a:t>لا تعدّ أسئلة كثيرة جدًّا في هذه الاختبارات. قم بإعداد مجموعات فرعيّة للمواضيع واختبرها بشكل مستقل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bfae2"/>
                </a:solidFill>
                <a:latin typeface="Arial"/>
                <a:cs typeface="Arial"/>
              </a:rPr>
              <a:t>تلميح مفيد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543800" y="380880"/>
          <a:ext cx="101916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80880"/>
                    <a:ext cx="1019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هذا سيساعدك على إيجاد الفجوات الصغيرة في مراجعتك.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2000"/>
                </a:solidFill>
                <a:latin typeface="Times New Roman"/>
                <a:cs typeface="Times New Roman"/>
              </a:rPr>
              <a:t>استخدمها بإيجابية، هذه الاختبارات لم تصمم لخداعك لكنّها طريقة عمليّة لإيجاد المواضع التي تتطلب المزيد من الدراسة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1886040"/>
          <a:ext cx="380988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886040"/>
                    <a:ext cx="38098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8T12:08:59Z</dcterms:created>
  <dc:creator>swdev</dc:creator>
  <dc:description/>
  <dc:language>en-US</dc:language>
  <cp:lastModifiedBy>Andaleeb</cp:lastModifiedBy>
  <dcterms:modified xsi:type="dcterms:W3CDTF">2004-08-11T17:39:19Z</dcterms:modified>
  <cp:revision>47</cp:revision>
  <dc:subject/>
  <dc:title>Revision Techniques</dc:title>
</cp:coreProperties>
</file>