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0D5-0793-4F9F-9493-82E51466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EB9-871E-4671-8E2B-526E080B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45A-DC05-45E0-919E-D42B54B1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445-10BE-4098-9426-A55E44F4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8C2-673B-48CC-83EE-0C6CAFB3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B94-3A38-48DC-82A1-8D9DE0ED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EA9-96ED-4570-9892-4DEE773B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677-7458-4732-9F44-606BD54B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423-495E-476E-BF20-5A2E73A4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BE9-B9FE-4F0E-819B-ED99B420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3C1-3914-4648-B664-E1A4D9F1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1E2-541E-4549-8A17-3011D2A6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436A-E457-4112-BD27-4A1011A82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5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سيا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مظه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91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07:23:16Z</dcterms:created>
  <dc:creator>MohdA</dc:creator>
  <dc:description/>
  <dc:language>en-US</dc:language>
  <cp:lastModifiedBy>Andaleeb</cp:lastModifiedBy>
  <dcterms:modified xsi:type="dcterms:W3CDTF">2004-08-11T17:21:54Z</dcterms:modified>
  <cp:revision>3</cp:revision>
  <dc:subject/>
  <dc:title>ZTER4560</dc:title>
</cp:coreProperties>
</file>