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8D0-08F5-4598-B6A6-01DE0C42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B3A-D841-4215-8976-22F2AF6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1F8-5372-4761-BA79-159A4E1B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EAC-E2A3-4472-AC4D-2FEFD24E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A8E1-0FE7-4A8C-9619-5AC8E89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13D-AFB5-4D8F-A920-48493F3F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458-1099-4EF3-90B9-2F7389BA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AE2-8D91-4F74-B644-3CE3CA0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343-FEFA-44C1-BC68-0D06BD1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11D-DBC9-4A00-B065-4BC6DB0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D84-EAF5-49A1-B297-C4A9BB0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E87-496F-4DAB-8B80-7C3069B6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F9C4-650A-44FD-8ACC-B2451EE00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89000"/>
            <a:ext cx="3276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4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157720"/>
            <a:ext cx="4064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آلة الرياض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89744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سيا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مظه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8218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أد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07:03:18Z</dcterms:created>
  <dc:creator>MohdA</dc:creator>
  <dc:description/>
  <dc:language>en-US</dc:language>
  <cp:lastModifiedBy>Andaleeb</cp:lastModifiedBy>
  <dcterms:modified xsi:type="dcterms:W3CDTF">2004-08-11T17:21:43Z</dcterms:modified>
  <cp:revision>2</cp:revision>
  <dc:subject/>
  <dc:title>الشريحة 1</dc:title>
</cp:coreProperties>
</file>