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5B5-5BFE-4CC8-A2A0-17BCE72B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017-F254-4104-B4BE-5E09A59A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86A-32F8-4D02-BD8C-F8951231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D2F-FB4C-4AB8-B8DF-87983543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0773-569A-4EF6-8DD9-C85A3082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BE07-B8C1-4340-9083-44A1D995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9836-7E4C-4FCF-ACFC-4BE1B1C4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ACD3-1C10-48CC-AC4C-F6286402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4560-D07F-492F-83E9-141A1DAE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C43D-F194-4A0D-8A0D-D58251EE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F75E-FB17-4035-841C-4EE706B9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A2A-5E99-48F2-878B-3D233C13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8A90-BA3F-4EFE-BEFF-E2360F7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D137-F3CF-4616-9716-39FA0170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85DD-471B-48A4-B4F9-A951227B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49E7-AF91-4627-952A-A88EDC7E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20E9-7000-4E31-AAF9-90A59F0E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94F-8D43-4054-98E7-CE541AA8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C34-CE4E-44D8-8150-96AC5CDB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937-E200-4F9F-A36E-648E27AE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5D1-07EA-4912-A5BB-DC4A7A2F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3B4-F351-4309-900F-BFBDDD4D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FCF-4600-496F-AA8C-018026D4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7D2-0BA7-4C05-B86A-E5658D87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F50A-526E-4731-9786-70F68DE032A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BDC2-2622-455A-90E0-C9C2BA114FF1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توجه الأُط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تقرير المبيعات السنوي </a:t>
            </a: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محتوي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قتباس السنة الماض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تقدم هذه السن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أرقام المبيعات والمرتجع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مساهمة في الأربا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سنة الماض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92360" y="2017800"/>
            <a:ext cx="330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بدأت المبيعات    بالإقلاع  بمنتجاتنا الجديدة برحلة       كبيرة خلال الربع  الثالث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احرزت المنتجات المطلقة التقدم         ببطء في          الأسوا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45120" y="201780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5120" y="201780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سنة الحال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أدى التسويق و المبيعات إلى تنشيط إطلاق         المنتجات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إطلاق منتج جدي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بحث العميل عن جميع العملاء الحاليي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إعادة إطلاق مكافئات المبيعا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04000" y="4797360"/>
            <a:ext cx="1535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9:43:34Z</dcterms:created>
  <dc:creator>nccworker</dc:creator>
  <dc:description/>
  <dc:language>en-US</dc:language>
  <cp:lastModifiedBy>Andaleeb</cp:lastModifiedBy>
  <dcterms:modified xsi:type="dcterms:W3CDTF">2004-08-11T17:11:00Z</dcterms:modified>
  <cp:revision>8</cp:revision>
  <dc:subject/>
  <dc:title>Windows Direct</dc:title>
</cp:coreProperties>
</file>