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86E-FA73-4148-8CF1-05C07277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D9F-A37E-4492-8284-250C968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7CE-BA5F-4511-AB5D-CC061E4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BF6-1118-4901-880E-0359B4EE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9C6-37B2-4A24-A981-DC245D92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9EB-95A8-4DA8-B856-002A832A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09A-B2DB-4106-B1DF-564BA59C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5F9-175B-424A-8269-D493DBED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FF5-ED31-4AC5-ADAE-9DFA9E76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8F6-96DA-4B24-9D80-2B73DDE1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6EA-7C4A-414A-8972-C83F9249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D1F-4D4C-44B6-8793-A51E4E1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ABD-6561-4F5C-B27C-7CD285BCC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مركز الوطني للحياة البح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571464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cc"/>
                </a:solidFill>
                <a:latin typeface="Arial"/>
                <a:cs typeface="Arial"/>
              </a:rPr>
              <a:t>المخلوقات الم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657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قر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عرف بزعانفها الخل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ُعد تهديداً حقيقاً لحياة الإنسان إذا تجاوز طولها </a:t>
            </a:r>
            <a:r>
              <a:rPr b="0" lang="ar-AE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</a:t>
            </a:r>
            <a:r>
              <a:rPr b="0" lang="ar-AE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أقد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صناف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ن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ث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أبيض ال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أبو مطر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قرش الحو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cc"/>
                </a:solidFill>
                <a:latin typeface="Arial"/>
                <a:cs typeface="Arial"/>
              </a:rPr>
              <a:t>الدولف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81728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تعرف بزعانفها الخلفية، وتصرفاتها المرح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حيوانات أليفة جد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صناف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دلفين الأنف المد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دلفين الأطلسي المحدب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الدلفين الأس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746440"/>
            <a:ext cx="3809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1:15:28Z</dcterms:created>
  <dc:creator>HEATHER</dc:creator>
  <dc:description/>
  <dc:language>en-US</dc:language>
  <cp:lastModifiedBy>Andaleeb</cp:lastModifiedBy>
  <dcterms:modified xsi:type="dcterms:W3CDTF">2004-08-11T17:01:55Z</dcterms:modified>
  <cp:revision>8</cp:revision>
  <dc:subject/>
  <dc:title>National Sea Life Centre</dc:title>
</cp:coreProperties>
</file>