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124-A166-4FB2-A1C1-1B65EE80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F78-121E-4BCC-8BA1-2D638B0C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57C-73AA-4C01-B15C-310E051E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012-B206-4CEB-89E3-948AC3A7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5B64-59DF-48DE-A8C8-77755197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FB8A-1EF2-4883-BAA4-34C912CD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7F82-AB4F-45DC-B6CD-46E76545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B18B-7E1F-4CB4-B9D3-AA2DD61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EB55-6028-4CD5-ADF5-EE56C038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CC56-6BE4-4511-806D-62809795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140F-33A1-4ED0-AFD6-6AEE29A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8A0-5A0F-494B-8E42-AEBE25D6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592C-E0AE-449C-ABC1-8BA767C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0EBA-1286-4E8E-9DDD-8BDE1570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85ED-B4B3-44E9-8B75-A538CE4A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F8A8-AE38-4783-8575-1DC4B0CC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0452-7980-410E-8BD7-891B80B0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50A-FD99-4633-AD8F-65995539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F13-B093-4A6D-A723-CB7D40EC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7AA-E1F3-40EC-AEB2-F1F410F7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B53-872D-4CE8-B7C3-A4DDF5EC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DFF-B8E2-43DE-97D1-4AAF91D3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5EB-FE4E-496B-AB9A-1A7E3BBB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D65-8F27-46F1-95E2-7272A872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42D0-1256-4728-A942-6069092375EA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68A-91CF-4D74-A89C-C58AF6CAB2A0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imes New Roman"/>
              </a:rPr>
              <a:t>ثانوية الكند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760" y="346500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الطريق الرئيسي جانب فندق الشل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تأسست في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</a:rPr>
              <a:t>19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35276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imes New Roman"/>
              </a:rPr>
              <a:t>حول ثانوية الكند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033280"/>
            <a:ext cx="518472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 تزال المدرسة في هذا الموقع منذ عام</a:t>
            </a:r>
            <a:r>
              <a:rPr b="0" lang="ar-AE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دم العديد من التسهيل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استخدام أحدث التقنيا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ملعب للتنس وصالة لياقة بدنية مجهزة بأحدث الوسائ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imes New Roman"/>
              </a:rPr>
              <a:t>تعليم المبادئ الأساسية لاستخدام الحاس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0360" y="2565360"/>
            <a:ext cx="24019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Andaleeb</cp:lastModifiedBy>
  <dcterms:modified xsi:type="dcterms:W3CDTF">2004-08-11T16:21:30Z</dcterms:modified>
  <cp:revision>2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