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C0C-3849-4939-8727-AE71DE3D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676-5755-44FD-A13C-9F541A5C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160-3451-4C0C-B5DE-D9C46A8D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695-DE20-4855-BC3B-ECF99F9C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A37E-EFC5-4A1E-AC51-8BF515EC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8334-77D9-47CB-B936-AA5F6358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8486-D9B1-400D-9242-A606F3DB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8473-44BB-4246-8025-9837E0E8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46F2-4402-4BBB-B796-D9911C18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FE35-9D23-4A14-A40B-40D0F802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5ED3-12E3-43B3-A63C-A6E9EE7C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282-463E-434B-83F6-563D9F23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1675-472B-4BDA-BF4C-CFE94C69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F059-602B-4D1B-8BD9-DFB851CD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753B-0919-43DD-966D-71E2380C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24D5-BC50-4C1E-BDFF-0F2494F8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2A0B-8F8F-4537-8709-AB626A26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2C0-BAD7-464C-8C6F-EC995124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E76-5552-4E4E-A5D0-7BD5ED06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CA5-4CF5-467C-818B-748FE931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F32-18A0-4B61-9E15-E5A83890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028-549A-4C92-9AA3-05CD9902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3D16-63C6-4001-8AC7-C2E20B1B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86F-A279-470C-84CB-10AE7B95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3616-EB57-4845-BFF2-C57FCE21BA5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34E6-82ED-402D-8E37-49C3F359947D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  <a:cs typeface="Tahoma"/>
              </a:rPr>
              <a:t>مكتبة المتنب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2276640"/>
            <a:ext cx="381024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شارع الإتحا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حي السلا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3280" y="3573000"/>
            <a:ext cx="38102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464832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  <a:cs typeface="Tahoma"/>
              </a:rPr>
              <a:t>رابطة الكتا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000" spc="-1" strike="noStrike">
                <a:solidFill>
                  <a:srgbClr val="000000"/>
                </a:solidFill>
                <a:latin typeface="Tahoma"/>
                <a:cs typeface="Tahoma"/>
              </a:rPr>
              <a:t>تسمح هذه الرابطة للزبائن بالانضمام إلى ناديها الخاص الذي يمنح ال</a:t>
            </a:r>
            <a:r>
              <a:rPr b="0" lang="ar-SA" sz="3000" spc="-1" strike="noStrike">
                <a:solidFill>
                  <a:srgbClr val="000000"/>
                </a:solidFill>
                <a:latin typeface="Tahoma"/>
                <a:cs typeface="Tahoma"/>
              </a:rPr>
              <a:t>أ</a:t>
            </a:r>
            <a:r>
              <a:rPr b="0" lang="ar-AE" sz="3000" spc="-1" strike="noStrike">
                <a:solidFill>
                  <a:srgbClr val="000000"/>
                </a:solidFill>
                <a:latin typeface="Tahoma"/>
                <a:cs typeface="Tahoma"/>
              </a:rPr>
              <a:t>عضاء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مجلة شهر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أمسيات شعر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عروض خاص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لقاءات مع الأدبا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  <a:cs typeface="Tahoma"/>
              </a:rPr>
              <a:t>ماذا يتضمن العر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8764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مجموعة ضخمة من السير الذات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جميع أنواع الكتب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العديد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من كتب الأطف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كتب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تعليم الطبخ الغربي و الشرقي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ولدينا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دائماً المزي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2692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  <a:cs typeface="Tahoma"/>
              </a:rPr>
              <a:t>العروض الخاصة بالافتتا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  <a:cs typeface="Tahoma"/>
              </a:rPr>
              <a:t>عند الافتتا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خصم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50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% على جميع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مشتري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  <a:cs typeface="Tahoma"/>
              </a:rPr>
              <a:t>خلال الأسبوع الأو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خصم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20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% على كتب تعليم الرس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خصم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50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% على كتب الأطف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خصم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15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% على جميع الكت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ahoma"/>
                <a:cs typeface="Tahoma"/>
              </a:rPr>
              <a:t>خلال الشهر الأو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ahoma"/>
                <a:cs typeface="Tahoma"/>
              </a:rPr>
              <a:t>خصم 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0" lang="ar-AE" sz="2800" spc="-1" strike="noStrike">
                <a:solidFill>
                  <a:srgbClr val="000000"/>
                </a:solidFill>
                <a:latin typeface="Tahoma"/>
                <a:ea typeface="Tahoma"/>
              </a:rPr>
              <a:t> % على كتب التاري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333399"/>
                </a:solidFill>
                <a:latin typeface="Tahoma"/>
                <a:cs typeface="Tahoma"/>
              </a:rPr>
              <a:t>أوقات العم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9:12:47Z</dcterms:created>
  <dc:creator>nccworker</dc:creator>
  <dc:description/>
  <dc:language>en-US</dc:language>
  <cp:lastModifiedBy>MohdA</cp:lastModifiedBy>
  <dcterms:modified xsi:type="dcterms:W3CDTF">2004-08-10T05:07:08Z</dcterms:modified>
  <cp:revision>19</cp:revision>
  <dc:subject/>
  <dc:title>Elliotts Bookshop</dc:title>
</cp:coreProperties>
</file>