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3.png" ContentType="image/png"/>
  <Override PartName="/ppt/media/image4.wmf" ContentType="image/x-wmf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883B-3FD2-4414-BC55-7C2AC58F3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14440" y="857160"/>
            <a:ext cx="58291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41D3-16C0-4B20-A7E5-0FAD06866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14440" y="857160"/>
            <a:ext cx="58291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E121-FECA-4A81-B684-8C2D3B0D5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14440" y="857160"/>
            <a:ext cx="58291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3F56-E571-4CFC-8D02-91FC10EC8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D6223-E2D1-44F7-8394-AEC236FDA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14440" y="857160"/>
            <a:ext cx="58291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734E2-E54D-473F-BB7B-74939A1D4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14440" y="857160"/>
            <a:ext cx="58291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1FE0D-2D43-45D8-AD7C-FB9A40D0E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14440" y="857160"/>
            <a:ext cx="58291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AE78D-702A-443B-ACDA-0FCFFDD45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14440" y="857160"/>
            <a:ext cx="58291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7A25F-3CFE-4B68-A0E3-66DE035C9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514440" y="857160"/>
            <a:ext cx="582912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608DC-0821-4809-890B-48B2DBF5E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14440" y="857160"/>
            <a:ext cx="58291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A86B2-719C-4C67-81B1-26EC34525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14440" y="857160"/>
            <a:ext cx="58291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C8F7-5270-4307-AA51-25CD35028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14440" y="857160"/>
            <a:ext cx="58291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75A19-3089-4143-B942-100152AE9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14440" y="857160"/>
            <a:ext cx="58291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0E933-871B-4DA8-B838-F46EAD543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14440" y="857160"/>
            <a:ext cx="58291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BA21F-4991-4810-9974-289F58143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14440" y="857160"/>
            <a:ext cx="58291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90148-9747-40EE-974B-096B8D298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14440" y="857160"/>
            <a:ext cx="58291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84ACA-7C0A-47A9-A3E5-C73FD9F08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857160"/>
            <a:ext cx="58291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E768-D480-4A43-9CA3-F734B7CB7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14440" y="857160"/>
            <a:ext cx="58291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C269-821F-4068-96B2-A32D209BA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14440" y="857160"/>
            <a:ext cx="58291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C96F-287B-4424-B4A8-3B0937157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514440" y="857160"/>
            <a:ext cx="582912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E225-64D6-4327-81E7-CD72DBA18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857160"/>
            <a:ext cx="58291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A3BF-87F3-49AD-B83D-A9E0E4E3F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14440" y="857160"/>
            <a:ext cx="58291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9D83-3396-4FF7-8D68-A2239E9A4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14440" y="857160"/>
            <a:ext cx="58291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BA06-C0C4-4CEB-81C6-116CF419D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236320" y="0"/>
            <a:ext cx="9175680" cy="9747360"/>
            <a:chOff x="-2236320" y="0"/>
            <a:chExt cx="9175680" cy="9747360"/>
          </a:xfrm>
        </p:grpSpPr>
        <p:sp>
          <p:nvSpPr>
            <p:cNvPr id="1" name=""/>
            <p:cNvSpPr/>
            <p:nvPr/>
          </p:nvSpPr>
          <p:spPr>
            <a:xfrm>
              <a:off x="1942920" y="8280"/>
              <a:ext cx="2067840" cy="91706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0"/>
              <a:ext cx="2068200" cy="91623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4457520" y="10440"/>
              <a:ext cx="2070360" cy="916452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286000" y="0"/>
              <a:ext cx="2476440" cy="91519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39320" y="224280"/>
              <a:ext cx="4172040" cy="3250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-213120" y="2106720"/>
              <a:ext cx="5384520" cy="11998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8640" y="122760"/>
              <a:ext cx="4172040" cy="3250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2793960" y="2932920"/>
              <a:ext cx="7416360" cy="1828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1584360" y="1951200"/>
              <a:ext cx="4278960" cy="3672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212560" y="1849680"/>
              <a:ext cx="4171680" cy="32511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059800" y="3960"/>
              <a:ext cx="1296720" cy="483588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8294760"/>
              <a:ext cx="6858000" cy="9140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942920" y="8391960"/>
              <a:ext cx="2067840" cy="8082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8391960"/>
              <a:ext cx="2068200" cy="806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457520" y="8391960"/>
              <a:ext cx="2070360" cy="80820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8391960"/>
              <a:ext cx="2476440" cy="8060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8283960"/>
              <a:ext cx="6858000" cy="9140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075120" y="8311320"/>
              <a:ext cx="1233360" cy="88884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1277280" y="8466120"/>
              <a:ext cx="2243520" cy="5713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419760" y="8466120"/>
              <a:ext cx="2243520" cy="5713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-443160" y="8402400"/>
              <a:ext cx="2188800" cy="5796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684720" y="8294040"/>
              <a:ext cx="4228920" cy="914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285120" y="8294040"/>
              <a:ext cx="1828800" cy="914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3614040" y="8395560"/>
              <a:ext cx="1585800" cy="810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4743360" y="8294040"/>
              <a:ext cx="1828800" cy="914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4114800" y="8294040"/>
              <a:ext cx="2743200" cy="914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8339400"/>
              <a:ext cx="6858000" cy="291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640" bIns="-17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14440" y="857160"/>
            <a:ext cx="58291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534600" y="84182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2363400" y="841824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4935240" y="84182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99FE3-3D3F-4A8A-8FA9-3F9BC5BC8C80}" type="slidenum">
              <a:rPr b="0" lang="ar-SA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2236680" y="-19080"/>
            <a:ext cx="9175680" cy="9180720"/>
            <a:chOff x="-2236680" y="-19080"/>
            <a:chExt cx="9175680" cy="9180720"/>
          </a:xfrm>
        </p:grpSpPr>
        <p:sp>
          <p:nvSpPr>
            <p:cNvPr id="70" name=""/>
            <p:cNvSpPr/>
            <p:nvPr/>
          </p:nvSpPr>
          <p:spPr>
            <a:xfrm>
              <a:off x="1942920" y="-10080"/>
              <a:ext cx="2067480" cy="91717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4400"/>
              <a:ext cx="2067840" cy="9163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457160" y="-8280"/>
              <a:ext cx="2070360" cy="916560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285640" y="-19080"/>
              <a:ext cx="2476080" cy="91530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38960" y="205560"/>
              <a:ext cx="4171680" cy="32511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-214560" y="2088360"/>
              <a:ext cx="5385240" cy="11998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98640" y="103680"/>
              <a:ext cx="4171680" cy="32511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2794320" y="2914920"/>
              <a:ext cx="7417440" cy="1828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1584360" y="1932480"/>
              <a:ext cx="4278960" cy="36727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212560" y="1830600"/>
              <a:ext cx="4171320" cy="32518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059800" y="-14400"/>
              <a:ext cx="1296720" cy="48366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5167080"/>
              <a:ext cx="685764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942920" y="5264280"/>
              <a:ext cx="2067480" cy="8082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5264280"/>
              <a:ext cx="2067840" cy="806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57160" y="5264280"/>
              <a:ext cx="2070360" cy="80820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285640" y="5264280"/>
              <a:ext cx="2476080" cy="8064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280" y="5198760"/>
              <a:ext cx="6857640" cy="9144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075120" y="5183640"/>
              <a:ext cx="1233360" cy="88884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1277640" y="5338440"/>
              <a:ext cx="2243520" cy="5709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420480" y="5338440"/>
              <a:ext cx="2243520" cy="5709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-443160" y="5274720"/>
              <a:ext cx="2188800" cy="5796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685080" y="5167080"/>
              <a:ext cx="4228560" cy="9144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285120" y="5167080"/>
              <a:ext cx="1828800" cy="9144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3613680" y="5268600"/>
              <a:ext cx="1585800" cy="8107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4743000" y="5167080"/>
              <a:ext cx="1828800" cy="9144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4113720" y="5167080"/>
              <a:ext cx="2742840" cy="9144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5211720"/>
              <a:ext cx="6857640" cy="291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640" bIns="-17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6096240"/>
              <a:ext cx="6857640" cy="1218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7213680"/>
              <a:ext cx="6857640" cy="19306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" descr=""/>
            <p:cNvPicPr/>
            <p:nvPr/>
          </p:nvPicPr>
          <p:blipFill>
            <a:blip r:embed="rId2"/>
            <a:stretch/>
          </p:blipFill>
          <p:spPr>
            <a:xfrm>
              <a:off x="935640" y="3492720"/>
              <a:ext cx="242640" cy="432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57120" y="2539800"/>
            <a:ext cx="5429160" cy="25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514080" y="843264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49150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46CBB-7567-4B98-8706-3A3B57D80F40}" type="slidenum">
              <a:rPr b="0" lang="ar-SA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oleObject" Target="../embeddings/oleObject1.bin"/><Relationship Id="rId9" Type="http://schemas.openxmlformats.org/officeDocument/2006/relationships/image" Target="../media/image4.wmf"/><Relationship Id="rId10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57120" y="2539800"/>
            <a:ext cx="5429160" cy="253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>
                <a:solidFill>
                  <a:srgbClr val="ffcc00"/>
                </a:solidFill>
                <a:latin typeface="Arial Black"/>
                <a:cs typeface="Arial"/>
              </a:rPr>
              <a:t>مكونات الحاسوب الشخصي.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142640" y="8229600"/>
            <a:ext cx="4800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800" spc="-1" strike="noStrike">
                <a:solidFill>
                  <a:srgbClr val="ffffff"/>
                </a:solidFill>
                <a:latin typeface="Arial"/>
                <a:cs typeface="Arial"/>
              </a:rPr>
              <a:t>مع تلميحات إضافية للعروض التقديم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62120" y="152280"/>
            <a:ext cx="39621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ww.star-trai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14400" y="6095880"/>
            <a:ext cx="530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AE" sz="32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إنجاز للتدريب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14440" y="858600"/>
            <a:ext cx="582912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>
                <a:solidFill>
                  <a:srgbClr val="ffcc00"/>
                </a:solidFill>
                <a:latin typeface="Arial Black"/>
                <a:cs typeface="Arial"/>
              </a:rPr>
              <a:t>القطع الخارجية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14440" y="2641320"/>
            <a:ext cx="582912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 algn="r" rtl="1">
              <a:lnSpc>
                <a:spcPct val="90000"/>
              </a:lnSpc>
              <a:spcBef>
                <a:spcPts val="499"/>
              </a:spcBef>
              <a:buSzPct val="1398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000" spc="-1" strike="noStrike">
                <a:solidFill>
                  <a:srgbClr val="ffffff"/>
                </a:solidFill>
                <a:latin typeface="Arial"/>
                <a:cs typeface="Arial"/>
              </a:rPr>
              <a:t>الصندوق وجهاز تغذية التيار الكهربائي: للحاسوب الشخصي المنزلي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r" rtl="1">
              <a:lnSpc>
                <a:spcPct val="90000"/>
              </a:lnSpc>
              <a:spcBef>
                <a:spcPts val="499"/>
              </a:spcBef>
              <a:buSzPct val="1398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000" spc="-1" strike="noStrike">
                <a:solidFill>
                  <a:srgbClr val="ffffff"/>
                </a:solidFill>
                <a:latin typeface="Arial"/>
                <a:cs typeface="Arial"/>
              </a:rPr>
              <a:t>بصورة عامة يتوفر جهاز تغذية التيار الكهربائي مع الصندو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r" rtl="1">
              <a:lnSpc>
                <a:spcPct val="90000"/>
              </a:lnSpc>
              <a:spcBef>
                <a:spcPts val="499"/>
              </a:spcBef>
              <a:buSzPct val="1398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000" spc="-1" strike="noStrike">
                <a:solidFill>
                  <a:srgbClr val="ffffff"/>
                </a:solidFill>
                <a:latin typeface="Arial"/>
                <a:cs typeface="Arial"/>
              </a:rPr>
              <a:t>الشاشة: للاستخدام المنزلي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r" rtl="1">
              <a:lnSpc>
                <a:spcPct val="90000"/>
              </a:lnSpc>
              <a:spcBef>
                <a:spcPts val="499"/>
              </a:spcBef>
              <a:buSzPct val="1398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000" spc="-1" strike="noStrike">
                <a:solidFill>
                  <a:srgbClr val="ffffff"/>
                </a:solidFill>
                <a:latin typeface="Arial"/>
                <a:cs typeface="Arial"/>
              </a:rPr>
              <a:t>تتوفر الشاشة بقدرات متعددة الوسائط مبينة داخليا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r" rtl="1">
              <a:lnSpc>
                <a:spcPct val="90000"/>
              </a:lnSpc>
              <a:spcBef>
                <a:spcPts val="499"/>
              </a:spcBef>
              <a:buSzPct val="1398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000" spc="-1" strike="noStrike">
                <a:solidFill>
                  <a:srgbClr val="ffffff"/>
                </a:solidFill>
                <a:latin typeface="Arial"/>
                <a:cs typeface="Arial"/>
              </a:rPr>
              <a:t>الفأرة يمكن أن تكون عاملة بالأشعة تحت الحمراء، أو بسلك، أو بعجل، أو مخصصة للشبكة العنكبية (الإنترنت) أو حتى مختلفة تماماً مثل كرة الأثير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r" rtl="1">
              <a:lnSpc>
                <a:spcPct val="90000"/>
              </a:lnSpc>
              <a:spcBef>
                <a:spcPts val="499"/>
              </a:spcBef>
              <a:buSzPct val="1398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000" spc="-1" strike="noStrike">
                <a:solidFill>
                  <a:srgbClr val="ffffff"/>
                </a:solidFill>
                <a:latin typeface="Arial"/>
                <a:cs typeface="Arial"/>
              </a:rPr>
              <a:t>لوحة المفاتيح: يمكن أن تكون خاصة بالشبكة العنكبية (الإنترنت) ومفتاح واحد للعمليات الأساسية، أو الأساليب التقليدية البسيطة، أو بسل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r" rtl="1">
              <a:lnSpc>
                <a:spcPct val="90000"/>
              </a:lnSpc>
              <a:spcBef>
                <a:spcPts val="499"/>
              </a:spcBef>
              <a:buSzPct val="13982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000" spc="-1" strike="noStrike">
                <a:solidFill>
                  <a:srgbClr val="ffffff"/>
                </a:solidFill>
                <a:latin typeface="Arial"/>
                <a:cs typeface="Arial"/>
              </a:rPr>
              <a:t>الطابعة: للاستعمال المنزلي، ويكفي طابعة متوسطة تعمل بنفث الحبر تكون مناسبة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514440" y="7823160"/>
            <a:ext cx="58291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000" spc="-1" strike="noStrike">
                <a:solidFill>
                  <a:srgbClr val="ff0000"/>
                </a:solidFill>
                <a:latin typeface="Arial"/>
                <a:cs typeface="Arial"/>
              </a:rPr>
              <a:t>فكر في مجالات استخدامك للحاسوب . سيساعدك ذلك على شراء المكونات الصحيحة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7315200"/>
            <a:ext cx="2400480" cy="406440"/>
          </a:xfrm>
          <a:prstGeom prst="rect">
            <a:avLst/>
          </a:prstGeom>
          <a:gradFill rotWithShape="0">
            <a:gsLst>
              <a:gs pos="0">
                <a:srgbClr val="72401e"/>
              </a:gs>
              <a:gs pos="100000">
                <a:srgbClr val="f98d4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600" spc="-1" strike="noStrike">
                <a:solidFill>
                  <a:srgbClr val="9ce157"/>
                </a:solidFill>
                <a:latin typeface="Arial"/>
                <a:cs typeface="Arial"/>
              </a:rPr>
              <a:t>تلميح</a:t>
            </a:r>
            <a:r>
              <a:rPr b="1" lang="en-US" sz="1600" spc="-1" strike="noStrike">
                <a:solidFill>
                  <a:srgbClr val="9ce157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62120" y="15228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www.star-train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14440" y="858600"/>
            <a:ext cx="582912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>
                <a:solidFill>
                  <a:srgbClr val="ffcc00"/>
                </a:solidFill>
                <a:latin typeface="Arial Black"/>
                <a:cs typeface="Arial"/>
              </a:rPr>
              <a:t>القطع الداخلية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14440" y="2641320"/>
            <a:ext cx="582912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 algn="r" rtl="1">
              <a:lnSpc>
                <a:spcPct val="90000"/>
              </a:lnSpc>
              <a:spcBef>
                <a:spcPts val="499"/>
              </a:spcBef>
              <a:buSzPct val="1398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000" spc="-1" strike="noStrike">
                <a:solidFill>
                  <a:srgbClr val="ffffff"/>
                </a:solidFill>
                <a:latin typeface="Arial"/>
                <a:cs typeface="Arial"/>
              </a:rPr>
              <a:t>القرص الصلب: اختر قرصاً ذي سعة أكبر وسرعة أعلى ضمن ميزانيت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 algn="r" rtl="1">
              <a:lnSpc>
                <a:spcPct val="90000"/>
              </a:lnSpc>
              <a:spcBef>
                <a:spcPts val="499"/>
              </a:spcBef>
              <a:buSzPct val="1398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000" spc="-1" strike="noStrike">
                <a:solidFill>
                  <a:srgbClr val="ffffff"/>
                </a:solidFill>
                <a:latin typeface="Arial"/>
                <a:cs typeface="Arial"/>
              </a:rPr>
              <a:t>اللوحة الأم: اختر الأحدث وبدون جرافيك وبطاقة الصوت داخلية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 algn="r" rtl="1">
              <a:lnSpc>
                <a:spcPct val="90000"/>
              </a:lnSpc>
              <a:spcBef>
                <a:spcPts val="499"/>
              </a:spcBef>
              <a:buSzPct val="1398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000" spc="-1" strike="noStrike">
                <a:solidFill>
                  <a:srgbClr val="ffffff"/>
                </a:solidFill>
                <a:latin typeface="Arial"/>
                <a:cs typeface="Arial"/>
              </a:rPr>
              <a:t>المعالج الدقيق: يتم تحديث المعالجات بسرعة كبيرة جداً لذلك قم بشراء ما يتناسب مع ميزانيت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 algn="r" rtl="1">
              <a:lnSpc>
                <a:spcPct val="90000"/>
              </a:lnSpc>
              <a:spcBef>
                <a:spcPts val="499"/>
              </a:spcBef>
              <a:buSzPct val="1398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000" spc="-1" strike="noStrike">
                <a:solidFill>
                  <a:srgbClr val="ffffff"/>
                </a:solidFill>
                <a:latin typeface="Arial"/>
                <a:cs typeface="Arial"/>
              </a:rPr>
              <a:t>ذاكرة الوصول العشوائي: يمكن أن تتذبذب أسعارها لذا انتظر الوقت المناسب. . . تتراوح الأسعار بين أسبوع وآخر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 algn="r" rtl="1">
              <a:lnSpc>
                <a:spcPct val="90000"/>
              </a:lnSpc>
              <a:spcBef>
                <a:spcPts val="499"/>
              </a:spcBef>
              <a:buSzPct val="1398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000" spc="-1" strike="noStrike">
                <a:solidFill>
                  <a:srgbClr val="ffffff"/>
                </a:solidFill>
                <a:latin typeface="Arial"/>
                <a:cs typeface="Arial"/>
              </a:rPr>
              <a:t>الجرافيك وبطاقات الصوت: هناك الكثير منها لذا من الأفضل إيجاد ما يتناسب مع ميزانيت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 algn="r" rtl="1">
              <a:lnSpc>
                <a:spcPct val="90000"/>
              </a:lnSpc>
              <a:spcBef>
                <a:spcPts val="499"/>
              </a:spcBef>
              <a:buSzPct val="1398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VD/CDROM/CDRW</a:t>
            </a:r>
            <a:r>
              <a:rPr b="0" lang="ar-AE" sz="2000" spc="-1" strike="noStrike">
                <a:solidFill>
                  <a:srgbClr val="ffffff"/>
                </a:solidFill>
                <a:latin typeface="Arial"/>
                <a:ea typeface="Arial"/>
              </a:rPr>
              <a:t> : هناك العديد من الأنواع، من الأفضل أن تفكر جيداً فيما تحتاجه فعلاً، ويمكنك إضافتها لاحقا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 algn="r" rtl="1">
              <a:lnSpc>
                <a:spcPct val="90000"/>
              </a:lnSpc>
              <a:spcBef>
                <a:spcPts val="499"/>
              </a:spcBef>
              <a:buSzPct val="13982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000" spc="-1" strike="noStrike">
                <a:solidFill>
                  <a:srgbClr val="ffffff"/>
                </a:solidFill>
                <a:latin typeface="Arial"/>
                <a:cs typeface="Arial"/>
              </a:rPr>
              <a:t>القرص المرن: الكثير من المحركات ما زالت تعمل بأقراص </a:t>
            </a:r>
            <a:r>
              <a:rPr b="0" lang="ar-AE" sz="2000" spc="-1" strike="noStrike">
                <a:solidFill>
                  <a:srgbClr val="ffffff"/>
                </a:solidFill>
                <a:latin typeface="Arial"/>
                <a:ea typeface="Arial"/>
              </a:rPr>
              <a:t>3.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49360" y="7956720"/>
            <a:ext cx="5829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ليس من الضروري شراء جميع المكونات من نفس المكان. حاول إجراء بعض المقارنات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7315200"/>
            <a:ext cx="2400480" cy="406440"/>
          </a:xfrm>
          <a:prstGeom prst="rect">
            <a:avLst/>
          </a:prstGeom>
          <a:gradFill rotWithShape="0">
            <a:gsLst>
              <a:gs pos="0">
                <a:srgbClr val="72401e"/>
              </a:gs>
              <a:gs pos="100000">
                <a:srgbClr val="f98d4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9ce157"/>
                </a:solidFill>
                <a:latin typeface="Times New Roman"/>
                <a:cs typeface="Times New Roman"/>
              </a:rPr>
              <a:t>تلميح</a:t>
            </a:r>
            <a:r>
              <a:rPr b="1" lang="en-US" sz="2400" spc="-1" strike="noStrike">
                <a:solidFill>
                  <a:srgbClr val="9ce157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5589720" y="6588000"/>
          <a:ext cx="925560" cy="12956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589720" y="6588000"/>
                    <a:ext cx="925560" cy="12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"/>
          <p:cNvSpPr/>
          <p:nvPr/>
        </p:nvSpPr>
        <p:spPr>
          <a:xfrm>
            <a:off x="762120" y="15228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www.star-train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14440" y="858600"/>
            <a:ext cx="582912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>
                <a:solidFill>
                  <a:srgbClr val="ffcc00"/>
                </a:solidFill>
                <a:latin typeface="Arial Black"/>
                <a:cs typeface="Arial"/>
              </a:rPr>
              <a:t>التكاليف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14440" y="1979640"/>
            <a:ext cx="5829120" cy="493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r" rtl="1">
              <a:lnSpc>
                <a:spcPct val="80000"/>
              </a:lnSpc>
              <a:spcBef>
                <a:spcPts val="224"/>
              </a:spcBef>
              <a:buSzPct val="3104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900" spc="-1" strike="noStrike">
                <a:solidFill>
                  <a:srgbClr val="ffffff"/>
                </a:solidFill>
                <a:latin typeface="Arial"/>
                <a:cs typeface="Arial"/>
              </a:rPr>
              <a:t>صندوق 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  <a:ea typeface="Arial"/>
              </a:rPr>
              <a:t>ATX Tower</a:t>
            </a:r>
            <a:r>
              <a:rPr b="0" lang="ar-AE" sz="900" spc="-1" strike="noStrike">
                <a:solidFill>
                  <a:srgbClr val="ffffff"/>
                </a:solidFill>
                <a:latin typeface="Arial"/>
                <a:ea typeface="Arial"/>
              </a:rPr>
              <a:t>: 38.75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SzPct val="1398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000" spc="-1" strike="noStrike">
                <a:solidFill>
                  <a:srgbClr val="ffffff"/>
                </a:solidFill>
                <a:latin typeface="Arial"/>
                <a:cs typeface="Arial"/>
              </a:rPr>
              <a:t>معالج دقيق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3</a:t>
            </a:r>
            <a:r>
              <a:rPr b="0" lang="ar-AE" sz="2000" spc="-1" strike="noStrike">
                <a:solidFill>
                  <a:srgbClr val="ffffff"/>
                </a:solidFill>
                <a:latin typeface="Arial"/>
                <a:ea typeface="Arial"/>
              </a:rPr>
              <a:t> : 168.8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SzPct val="1398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000" spc="-1" strike="noStrike">
                <a:solidFill>
                  <a:srgbClr val="ffffff"/>
                </a:solidFill>
                <a:latin typeface="Arial"/>
                <a:cs typeface="Arial"/>
              </a:rPr>
              <a:t>اللوحة الأم نوع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</a:t>
            </a:r>
            <a:r>
              <a:rPr b="0" lang="ar-AE" sz="2000" spc="-1" strike="noStrike">
                <a:solidFill>
                  <a:srgbClr val="ffffff"/>
                </a:solidFill>
                <a:latin typeface="Arial"/>
                <a:ea typeface="Arial"/>
              </a:rPr>
              <a:t>: 100.2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SzPct val="1398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000" spc="-1" strike="noStrike">
                <a:solidFill>
                  <a:srgbClr val="ffffff"/>
                </a:solidFill>
                <a:latin typeface="Arial"/>
                <a:cs typeface="Arial"/>
              </a:rPr>
              <a:t>ذاكرة الوصول العشوائي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28MB SDRAM </a:t>
            </a:r>
            <a:r>
              <a:rPr b="0" lang="ar-AE" sz="2000" spc="-1" strike="noStrike">
                <a:solidFill>
                  <a:srgbClr val="ffffff"/>
                </a:solidFill>
                <a:latin typeface="Arial"/>
                <a:ea typeface="Arial"/>
              </a:rPr>
              <a:t>: 111.6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SzPct val="1398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000" spc="-1" strike="noStrike">
                <a:solidFill>
                  <a:srgbClr val="ffffff"/>
                </a:solidFill>
                <a:latin typeface="Arial"/>
                <a:cs typeface="Arial"/>
              </a:rPr>
              <a:t>بطاقة الجرافيك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Graph Co</a:t>
            </a:r>
            <a:r>
              <a:rPr b="0" lang="ar-AE" sz="2000" spc="-1" strike="noStrike">
                <a:solidFill>
                  <a:srgbClr val="ffffff"/>
                </a:solidFill>
                <a:latin typeface="Arial"/>
                <a:ea typeface="Arial"/>
              </a:rPr>
              <a:t>: 180.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SzPct val="1398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000" spc="-1" strike="noStrike">
                <a:solidFill>
                  <a:srgbClr val="ffffff"/>
                </a:solidFill>
                <a:latin typeface="Arial"/>
                <a:cs typeface="Arial"/>
              </a:rPr>
              <a:t>القرص الصلب </a:t>
            </a:r>
            <a:r>
              <a:rPr b="0" lang="ar-AE" sz="2000" spc="-1" strike="noStrike">
                <a:solidFill>
                  <a:srgbClr val="ffffff"/>
                </a:solidFill>
                <a:latin typeface="Arial"/>
                <a:ea typeface="Arial"/>
              </a:rPr>
              <a:t>40.1</a:t>
            </a:r>
            <a:r>
              <a:rPr b="0" lang="ar-AE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Gig UDMA</a:t>
            </a:r>
            <a:r>
              <a:rPr b="0" lang="ar-AE" sz="2000" spc="-1" strike="noStrike">
                <a:solidFill>
                  <a:srgbClr val="ffffff"/>
                </a:solidFill>
                <a:latin typeface="Arial"/>
                <a:ea typeface="Arial"/>
              </a:rPr>
              <a:t>: 163.3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SzPct val="13982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D-ROM</a:t>
            </a:r>
            <a:r>
              <a:rPr b="0" lang="ar-AE" sz="20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0X</a:t>
            </a:r>
            <a:r>
              <a:rPr b="0" lang="ar-AE" sz="2000" spc="-1" strike="noStrike">
                <a:solidFill>
                  <a:srgbClr val="ffffff"/>
                </a:solidFill>
                <a:latin typeface="Arial"/>
                <a:ea typeface="Arial"/>
              </a:rPr>
              <a:t>: 31.2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SzPct val="13982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000" spc="-1" strike="noStrike">
                <a:solidFill>
                  <a:srgbClr val="ffffff"/>
                </a:solidFill>
                <a:latin typeface="Arial"/>
                <a:ea typeface="Arial"/>
              </a:rPr>
              <a:t>3.5</a:t>
            </a:r>
            <a:r>
              <a:rPr b="0" lang="ar-AE" sz="2000" spc="-1" strike="noStrike">
                <a:solidFill>
                  <a:srgbClr val="ffffff"/>
                </a:solidFill>
                <a:latin typeface="Arial"/>
                <a:ea typeface="Arial"/>
              </a:rPr>
              <a:t> محرك أقراص مرنة: </a:t>
            </a:r>
            <a:r>
              <a:rPr b="0" lang="ar-AE" sz="2000" spc="-1" strike="noStrike">
                <a:solidFill>
                  <a:srgbClr val="ffffff"/>
                </a:solidFill>
                <a:latin typeface="Arial"/>
                <a:ea typeface="Arial"/>
              </a:rPr>
              <a:t>14.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SzPct val="13982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000" spc="-1" strike="noStrike">
                <a:solidFill>
                  <a:srgbClr val="ffffff"/>
                </a:solidFill>
                <a:latin typeface="Arial"/>
                <a:cs typeface="Arial"/>
              </a:rPr>
              <a:t>الفأرة و لوحة المفاتيح: </a:t>
            </a:r>
            <a:r>
              <a:rPr b="0" lang="ar-AE" sz="2000" spc="-1" strike="noStrike">
                <a:solidFill>
                  <a:srgbClr val="ffffff"/>
                </a:solidFill>
                <a:latin typeface="Arial"/>
                <a:ea typeface="Arial"/>
              </a:rPr>
              <a:t>38.2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SzPct val="13982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000" spc="-1" strike="noStrike">
                <a:solidFill>
                  <a:srgbClr val="ffffff"/>
                </a:solidFill>
                <a:latin typeface="Arial"/>
                <a:cs typeface="Arial"/>
              </a:rPr>
              <a:t>الشاشة </a:t>
            </a:r>
            <a:r>
              <a:rPr b="0" lang="ar-AE" sz="2000" spc="-1" strike="noStrike">
                <a:solidFill>
                  <a:srgbClr val="ffffff"/>
                </a:solidFill>
                <a:latin typeface="Arial"/>
                <a:ea typeface="Arial"/>
              </a:rPr>
              <a:t>15</a:t>
            </a:r>
            <a:r>
              <a:rPr b="0" lang="ar-AE" sz="2000" spc="-1" strike="noStrike">
                <a:solidFill>
                  <a:srgbClr val="ffffff"/>
                </a:solidFill>
                <a:latin typeface="Arial"/>
                <a:ea typeface="Arial"/>
              </a:rPr>
              <a:t>“: </a:t>
            </a:r>
            <a:r>
              <a:rPr b="0" lang="ar-AE" sz="2000" spc="-1" strike="noStrike">
                <a:solidFill>
                  <a:srgbClr val="ffffff"/>
                </a:solidFill>
                <a:latin typeface="Arial"/>
                <a:ea typeface="Arial"/>
              </a:rPr>
              <a:t>89.6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SzPct val="13982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000" spc="-1" strike="noStrike">
                <a:solidFill>
                  <a:srgbClr val="ffffff"/>
                </a:solidFill>
                <a:latin typeface="Arial"/>
                <a:cs typeface="Arial"/>
              </a:rPr>
              <a:t>التركيب  والاختبار: </a:t>
            </a:r>
            <a:r>
              <a:rPr b="0" lang="ar-AE" sz="2000" spc="-1" strike="noStrike">
                <a:solidFill>
                  <a:srgbClr val="ffffff"/>
                </a:solidFill>
                <a:latin typeface="Arial"/>
                <a:ea typeface="Arial"/>
              </a:rPr>
              <a:t>50.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14440" y="7620120"/>
            <a:ext cx="58291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000" spc="-1" strike="noStrike">
                <a:solidFill>
                  <a:srgbClr val="ffffff"/>
                </a:solidFill>
                <a:latin typeface="Arial"/>
                <a:cs typeface="Arial"/>
              </a:rPr>
              <a:t>تذكر اختلاف الأسعار بين أسبوع وآخر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7112160"/>
            <a:ext cx="2400480" cy="406080"/>
          </a:xfrm>
          <a:prstGeom prst="rect">
            <a:avLst/>
          </a:prstGeom>
          <a:gradFill rotWithShape="0">
            <a:gsLst>
              <a:gs pos="0">
                <a:srgbClr val="72401e"/>
              </a:gs>
              <a:gs pos="100000">
                <a:srgbClr val="f98d4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9ce157"/>
                </a:solidFill>
                <a:latin typeface="Times New Roman"/>
                <a:cs typeface="Times New Roman"/>
              </a:rPr>
              <a:t>تلميح</a:t>
            </a:r>
            <a:r>
              <a:rPr b="1" lang="en-US" sz="2400" spc="-1" strike="noStrike">
                <a:solidFill>
                  <a:srgbClr val="9ce157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60280" y="468360"/>
            <a:ext cx="5829480" cy="8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دائماً اختبر الأجهزة قبل أن تسليمها إلى عميلك 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15228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www.star-train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14440" y="858600"/>
            <a:ext cx="582912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>
                <a:solidFill>
                  <a:srgbClr val="ffcc00"/>
                </a:solidFill>
                <a:latin typeface="Arial Black"/>
                <a:cs typeface="Arial"/>
              </a:rPr>
              <a:t>إجراءات الأمان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ffffff"/>
                </a:solidFill>
                <a:latin typeface="Arial"/>
                <a:cs typeface="Arial"/>
              </a:rPr>
              <a:t>تأكد من فصل التيار الكهربائي عن جهاز الحاسوب قبل بدء العمل ضمن مكوناته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14440" y="7620120"/>
            <a:ext cx="5829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ar-AE" sz="2000" spc="-1" strike="noStrike">
                <a:solidFill>
                  <a:srgbClr val="ffffff"/>
                </a:solidFill>
                <a:latin typeface="Arial"/>
                <a:cs typeface="Arial"/>
              </a:rPr>
              <a:t>راجع تعليمات الصحة والأمان الموجودة في آخر المحاضرة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7164360"/>
            <a:ext cx="2400480" cy="360360"/>
          </a:xfrm>
          <a:prstGeom prst="rect">
            <a:avLst/>
          </a:prstGeom>
          <a:gradFill rotWithShape="0">
            <a:gsLst>
              <a:gs pos="0">
                <a:srgbClr val="72401e"/>
              </a:gs>
              <a:gs pos="100000">
                <a:srgbClr val="f98d4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600" spc="-1" strike="noStrike">
                <a:solidFill>
                  <a:srgbClr val="ffffff"/>
                </a:solidFill>
                <a:latin typeface="Arial"/>
                <a:cs typeface="Arial"/>
              </a:rPr>
              <a:t>للمزيد من التعليمات...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15228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www.star-train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14440" y="858600"/>
            <a:ext cx="582912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cc00"/>
                </a:solidFill>
                <a:latin typeface="Arial Black"/>
                <a:cs typeface="Arial"/>
              </a:rPr>
              <a:t>الميزات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019040" y="2411280"/>
            <a:ext cx="28386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r" rtl="1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  <a:cs typeface="Arial"/>
              </a:rPr>
              <a:t>مع بعض التعليمات الإضافية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  <a:cs typeface="Arial"/>
              </a:rPr>
              <a:t>لتوصيل العروض التقديمي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259920" y="2556000"/>
            <a:ext cx="2838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5228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www.star-train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14440" y="1192320"/>
            <a:ext cx="5829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>
                <a:solidFill>
                  <a:srgbClr val="ffcc00"/>
                </a:solidFill>
                <a:latin typeface="Arial Black"/>
                <a:cs typeface="Arial"/>
              </a:rPr>
              <a:t>الدعم الفني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ffffff"/>
                </a:solidFill>
                <a:latin typeface="Arial"/>
                <a:cs typeface="Arial"/>
              </a:rPr>
              <a:t>دعم ضمن موقعنا على الشبكة العنكبية (الإنترنت) لمدة ثلاثة أشهر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ffffff"/>
                </a:solidFill>
                <a:latin typeface="Arial"/>
                <a:cs typeface="Arial"/>
              </a:rPr>
              <a:t>صيانة الجهاز خلال ستة أشهر ضمن مبنى الشركة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0T10:01:01Z</dcterms:created>
  <dc:creator>Administrator</dc:creator>
  <dc:description/>
  <dc:language>en-US</dc:language>
  <cp:lastModifiedBy>ويره</cp:lastModifiedBy>
  <dcterms:modified xsi:type="dcterms:W3CDTF">2007-03-08T15:41:30Z</dcterms:modified>
  <cp:revision>30</cp:revision>
  <dc:subject/>
  <dc:title>The components of a P.C.</dc:title>
</cp:coreProperties>
</file>