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808-87A6-471D-BCC8-D30F9F58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0E5-F0EC-4E7D-9311-839C65D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C14-2AEB-4A22-9935-A61E4FCC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662-D06B-4CBA-8B7E-06417717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8074-EAFF-4643-8BEE-B4F5E0C0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982-D933-4D49-B564-3E4F5C98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EEA7-43E8-437E-8F03-B5CDA3C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4A5-B555-4CDA-9197-8995BD5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875D-4464-49DF-98C8-E78B4608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D7BD-1A5D-4AFE-974B-FA124D35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89C0-BD66-46F6-B76E-BD5B40C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12D-F60B-4319-9D37-D7D97ED5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E3D4-FBDB-4963-888A-A218004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9018-3FFC-40CB-8F85-9CADFC3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340B-25D8-496D-9F4F-802B0E1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4B26-C579-4BEC-A176-E0C05B32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D894-DBC3-496A-86F7-8F5843CB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DF4-8476-4369-9A1E-1C389368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689-5326-4AE8-A5D3-9F72C83F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7AB-1920-42FF-83BE-93F7F11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550-C64F-4AB4-8190-5E67DD7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94C-9530-4762-AA39-5BF8EE9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390-35B7-4AAD-B2D2-D4CF94AB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073-78D2-4629-AB9C-EB355C31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5840" y="0"/>
            <a:ext cx="1085760" cy="9142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2336760"/>
            <a:ext cx="3543120" cy="203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1015920"/>
            <a:ext cx="6284880" cy="1015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14080" y="8229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343240" y="8229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915080" y="822924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5840" y="0"/>
            <a:ext cx="1085760" cy="9142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440" y="3251160"/>
            <a:ext cx="6342120" cy="10159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14080" y="82292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2343240" y="82292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4915080" y="822924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73520"/>
            <a:ext cx="3543480" cy="203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1000" y="3047760"/>
            <a:ext cx="64580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جماعة الأرض الطيبة لحماية البيئ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95480" y="5029200"/>
            <a:ext cx="377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80773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ضو مساعدة البيئ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تاريخنا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440" y="294624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5840" y="2844720"/>
            <a:ext cx="6458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جماعة الأرض الطيبة لحماية البيئة هي أقدم جماعة مستقلة لحماية البيئة             في الوطن العربي. تشكلت جماعتنا منذ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35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 سنة للاعتناء ببعض                القنوات في المنطقة. منذ ذلك الوقت وأعضاء الجماعة في نمو مستم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نحن نعمل بنشاط في منطقة شمال أفريقيا وما حولها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Times New Roman"/>
              </a:rPr>
              <a:t>مع ما يزيد عن 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500</a:t>
            </a:r>
            <a:r>
              <a:rPr b="0" lang="ar-AE" sz="1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 عضو</a:t>
            </a:r>
            <a:r>
              <a:rPr b="1" lang="ar-AE" sz="1800" spc="-1" strike="noStrike">
                <a:solidFill>
                  <a:srgbClr val="00ccff"/>
                </a:solidFill>
                <a:latin typeface="Times New Roman"/>
                <a:ea typeface="Arabic Transparen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6553080"/>
            <a:ext cx="2209680" cy="2021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72428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800" spc="-1" strike="noStrike">
                <a:solidFill>
                  <a:srgbClr val="00ccff"/>
                </a:solidFill>
                <a:latin typeface="Times New Roman"/>
                <a:cs typeface="Arabic Transparent"/>
              </a:rPr>
              <a:t>نرحب دائماً بالمتطوعين الجدد الراغبين بالانضمام إلينا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ا الذي نقوم به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الاهتمام بالغابات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بناء وإحياء البرك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غرس الأشجار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بناء ممرات المشا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تجفيف الأسوار الحجري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زراعة السياج الشجرية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ع من نعم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05320" y="2641680"/>
            <a:ext cx="28382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نعمل مع الأشخاص الموثو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بهم، والمنظمات الدولي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وبعض الجماعات الأخر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ضمن منطقتنا. نرحب دائماً  بالتعاون مع المجموعات الأخرى في منطقتنا و في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Arial"/>
              </a:rPr>
              <a:t>ل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خارج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120" y="812520"/>
            <a:ext cx="6229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من يدفع لنا وما التكلفة التي نحتاجها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نحن مؤسسة خيرية مسجلة و نعتمد على التبرعات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ffffff"/>
                </a:solidFill>
                <a:latin typeface="Arial"/>
                <a:cs typeface="Arial"/>
              </a:rPr>
              <a:t>لا نتقاضى أجراً عن خدماتنا أبدًا</a:t>
            </a:r>
            <a:r>
              <a:rPr b="1" lang="ar-AE" sz="9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نحن نبحث عن رعاة/ متبرعين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900" spc="-1" strike="noStrike">
                <a:solidFill>
                  <a:srgbClr val="ffffff"/>
                </a:solidFill>
                <a:latin typeface="Arial"/>
                <a:cs typeface="Arial"/>
              </a:rPr>
              <a:t>عدة شركات كبرى تزودنا بالموارد مجاناً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2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ffffff"/>
                </a:solidFill>
                <a:latin typeface="Arial"/>
                <a:cs typeface="Arial"/>
              </a:rPr>
              <a:t>لقد قدمنا طلباً للحصول على منحة لتجديد قناة ضخمة.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ffffff"/>
                </a:solidFill>
                <a:latin typeface="Arial"/>
                <a:cs typeface="Arial"/>
              </a:rPr>
              <a:t>اتصل بنا على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0161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222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557</a:t>
            </a:r>
            <a:r>
              <a:rPr b="1" lang="ar-A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لتقديم التبرعات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1658880" cy="151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وضع التكنولوجيا في خدمتنا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4440" y="2641320"/>
            <a:ext cx="5829120" cy="23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دائماً ما تستخدم جماعة الأرض الطيبة أحدث التكنولوجيا. لعرض تقديمي مثل هذا نستخدم باوربوينت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الشريحة التالية مقتبسة من تعليمات باوربوينت وتعرض كيفية إنشاء الشرائح وملاحظات المعلق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800" spc="-1" strike="noStrike">
                <a:solidFill>
                  <a:srgbClr val="ffffff"/>
                </a:solidFill>
                <a:latin typeface="Arial"/>
                <a:cs typeface="Arial"/>
              </a:rPr>
              <a:t>للحصول على تعليمات أكثر، استخدم فهرس التعليمات.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43200" y="5029200"/>
            <a:ext cx="3960720" cy="362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1360" y="3048120"/>
            <a:ext cx="6458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جماعة الأرض الطيبة لحماية البيئ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-360" y="4876920"/>
            <a:ext cx="2343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انضم إلينا وكن مختلفا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بنية الفريق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دير العمليات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الأعضاء والمشتركين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دراء المشروع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الصحة والأمان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2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000" spc="-1" strike="noStrike">
                <a:solidFill>
                  <a:srgbClr val="ffffff"/>
                </a:solidFill>
                <a:latin typeface="Arial"/>
                <a:cs typeface="Arial"/>
              </a:rPr>
              <a:t>مسؤول الدعاية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cbcbcb"/>
                </a:solidFill>
                <a:latin typeface="Times New Roman"/>
                <a:cs typeface="Times New Roman"/>
              </a:rPr>
              <a:t>كيف اشترك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احضر أي من اجتماعاتنا التي تعقد أيام الأربعاء والجمعة  والأحد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400" spc="-1" strike="noStrike">
                <a:solidFill>
                  <a:srgbClr val="ffffff"/>
                </a:solidFill>
                <a:latin typeface="Arial"/>
                <a:cs typeface="Arial"/>
              </a:rPr>
              <a:t>تتم اللقاءات في النادي الموجود في الشارع الرئيسي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440" y="7620120"/>
            <a:ext cx="5829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ملابس مريح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Arial"/>
              </a:rPr>
              <a:t>بعض وقت الفراغ والحماس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112160"/>
            <a:ext cx="2400480" cy="4060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"/>
                <a:cs typeface="Arial"/>
              </a:rPr>
              <a:t>ماذا أحتاج ؟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8839080"/>
            <a:ext cx="1676520" cy="763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08:40:55Z</dcterms:created>
  <dc:creator>swdev</dc:creator>
  <dc:description/>
  <dc:language>en-US</dc:language>
  <cp:lastModifiedBy>NCC ATS </cp:lastModifiedBy>
  <dcterms:modified xsi:type="dcterms:W3CDTF">2004-08-24T11:11:08Z</dcterms:modified>
  <cp:revision>66</cp:revision>
  <dc:subject/>
  <dc:title>The Manchester Conservation Group</dc:title>
</cp:coreProperties>
</file>